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0.gif" ContentType="image/gif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CEAD-1151-45F9-8E75-B8944D2DEF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31C4-8D69-4AD6-967B-9B5BA234643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3E05-38EC-4443-916A-D1F372F4E636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4929-FC17-4B3D-8ADD-950F56CFD7EA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1E36-BF99-448C-9F9A-2F278D32494E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540640"/>
            <a:ext cx="29718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DD9-CDC6-4537-AF5E-97AEBA0A718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81160" y="674640"/>
            <a:ext cx="449568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269960"/>
            <a:ext cx="548640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A4D-CCEB-4359-8817-266B1FBA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632-340D-437E-8557-11436044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49A-699C-462B-91E8-C7F2936E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A78-23A1-4DE5-AFE2-AC724844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B86B-54DC-499A-9C11-36057D45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3DD8-F2B3-4936-8EF6-571A6046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B4A-1399-4D1B-B13B-FC7855C4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B934-9BA6-4BA3-B4E7-84339936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01C-35B6-45D4-98B4-576FD9D4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D79-F8E3-4F56-95B3-2268FD2D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DE9-527D-45FA-B680-3299C856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FED9-A3E4-487E-87F2-630F126F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2CC4-1025-40A6-8E4D-7A4081F74C10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AL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Utilizada en el desarrollo y construcción de los submarinos atómicos con misiles (PERT). Paralelamente desarrollada para la planificación de “paros de planta”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malla (nodos y flechas) donde los nodos representan las actividades y las flechas las relaciones entre éstas (PERT). O bien, nodos que representan hitos y flechas que corresponden a actividades (CP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 un camino entre el inicio y el fin que determina la duración del proyec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MINO CRÍT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Pert 1"/>
          <p:cNvPicPr/>
          <p:nvPr/>
        </p:nvPicPr>
        <p:blipFill>
          <a:blip r:embed="rId1"/>
          <a:srcRect l="0" t="0" r="756" b="63120"/>
          <a:stretch/>
        </p:blipFill>
        <p:spPr>
          <a:xfrm>
            <a:off x="324000" y="1773360"/>
            <a:ext cx="8640720" cy="203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rt 2"/>
          <p:cNvPicPr/>
          <p:nvPr/>
        </p:nvPicPr>
        <p:blipFill>
          <a:blip r:embed="rId2"/>
          <a:srcRect l="1979" t="4029" r="43764" b="79817"/>
          <a:stretch/>
        </p:blipFill>
        <p:spPr>
          <a:xfrm>
            <a:off x="324000" y="5084640"/>
            <a:ext cx="8569080" cy="14796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7"/>
          <p:cNvSpPr/>
          <p:nvPr/>
        </p:nvSpPr>
        <p:spPr>
          <a:xfrm rot="3643800">
            <a:off x="3047760" y="4089240"/>
            <a:ext cx="1609560" cy="720720"/>
          </a:xfrm>
          <a:prstGeom prst="rightArrow">
            <a:avLst>
              <a:gd name="adj1" fmla="val 50000"/>
              <a:gd name="adj2" fmla="val 55832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ctividades representadas mediante barras y relacionadas utilizando flech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puede determinar el camino crí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mplificadamente se le llama Carta Gant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usa en software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S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imavera Project Pla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REPRESENTACIÓN MIX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Picture 5" descr="Representación Mixta"/>
          <p:cNvPicPr/>
          <p:nvPr/>
        </p:nvPicPr>
        <p:blipFill>
          <a:blip r:embed="rId1"/>
          <a:srcRect l="7804" t="0" r="0" b="0"/>
          <a:stretch/>
        </p:blipFill>
        <p:spPr>
          <a:xfrm>
            <a:off x="77760" y="2179800"/>
            <a:ext cx="8964720" cy="26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tiliza un sistema de coordenadas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distancia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v/s tiem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4"/>
          <p:cNvSpPr/>
          <p:nvPr/>
        </p:nvSpPr>
        <p:spPr>
          <a:xfrm flipV="1">
            <a:off x="3348000" y="3357360"/>
            <a:ext cx="0" cy="21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3348000" y="5518080"/>
            <a:ext cx="540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3852720" y="3716280"/>
            <a:ext cx="3961080" cy="115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"/>
          <p:cNvSpPr/>
          <p:nvPr/>
        </p:nvSpPr>
        <p:spPr>
          <a:xfrm rot="16200000">
            <a:off x="5616360" y="3897360"/>
            <a:ext cx="432000" cy="395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7812000" y="3645000"/>
            <a:ext cx="0" cy="1871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3348000" y="3645000"/>
            <a:ext cx="4392720" cy="7128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076720" y="61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DUR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852720" y="486900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2"/>
          <p:cNvSpPr/>
          <p:nvPr/>
        </p:nvSpPr>
        <p:spPr>
          <a:xfrm flipH="1">
            <a:off x="3348000" y="486900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324000" y="491976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6412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324000" y="3767040"/>
            <a:ext cx="2592360" cy="371520"/>
          </a:xfrm>
          <a:prstGeom prst="borderCallout1">
            <a:avLst>
              <a:gd name="adj1" fmla="val 18750"/>
              <a:gd name="adj2" fmla="val -8333"/>
              <a:gd name="adj3" fmla="val -20513"/>
              <a:gd name="adj4" fmla="val 1153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ugar”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3419640" y="3213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LÍNEAS DE BALA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9" name="AutoShape 18"/>
          <p:cNvCxnSpPr>
            <a:stCxn id="137" idx="1"/>
            <a:endCxn id="138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40" name="AutoShape 19"/>
          <p:cNvCxnSpPr>
            <a:stCxn id="134" idx="1"/>
            <a:endCxn id="135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1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4" name="AutoShape 23"/>
          <p:cNvCxnSpPr>
            <a:stCxn id="142" idx="3"/>
            <a:endCxn id="143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45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AutoShape 25"/>
          <p:cNvCxnSpPr>
            <a:stCxn id="141" idx="0"/>
            <a:endCxn id="145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2"/>
          <p:cNvSpPr/>
          <p:nvPr/>
        </p:nvSpPr>
        <p:spPr>
          <a:xfrm>
            <a:off x="450072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3348000" y="3284640"/>
            <a:ext cx="0" cy="26654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7740720" y="3213000"/>
            <a:ext cx="0" cy="2664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Line 5"/>
          <p:cNvSpPr/>
          <p:nvPr/>
        </p:nvSpPr>
        <p:spPr>
          <a:xfrm>
            <a:off x="6372360" y="3213000"/>
            <a:ext cx="0" cy="27352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ROGRAMACIÓN RÍTM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Line 7"/>
          <p:cNvSpPr/>
          <p:nvPr/>
        </p:nvSpPr>
        <p:spPr>
          <a:xfrm flipV="1">
            <a:off x="154764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1547640" y="5516640"/>
            <a:ext cx="738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18728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856944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61928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771640" y="5084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643280" y="5084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012000" y="5084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197964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3132000" y="479736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5003640" y="479736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6372360" y="479736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340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492360" y="450864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364000" y="450864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6732720" y="450864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23"/>
          <p:cNvSpPr/>
          <p:nvPr/>
        </p:nvSpPr>
        <p:spPr>
          <a:xfrm>
            <a:off x="2627280" y="4221000"/>
            <a:ext cx="1152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3780000" y="4221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25"/>
          <p:cNvSpPr/>
          <p:nvPr/>
        </p:nvSpPr>
        <p:spPr>
          <a:xfrm>
            <a:off x="5651640" y="422100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7020000" y="422100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291636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4068720" y="393372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5940360" y="3933720"/>
            <a:ext cx="1368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7308720" y="3933720"/>
            <a:ext cx="122400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320364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356000" y="3645000"/>
            <a:ext cx="1871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227640" y="3645000"/>
            <a:ext cx="1368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7596360" y="3645000"/>
            <a:ext cx="12236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ACTIV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4000" y="5084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36"/>
          <p:cNvSpPr/>
          <p:nvPr/>
        </p:nvSpPr>
        <p:spPr>
          <a:xfrm>
            <a:off x="324000" y="479736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324000" y="450864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324000" y="4221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324000" y="393372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324000" y="3645000"/>
            <a:ext cx="1152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ahoma"/>
              </a:rPr>
              <a:t>UNIDAD 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41"/>
          <p:cNvSpPr/>
          <p:nvPr/>
        </p:nvSpPr>
        <p:spPr>
          <a:xfrm flipH="1">
            <a:off x="1476000" y="5084640"/>
            <a:ext cx="1429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42"/>
          <p:cNvSpPr/>
          <p:nvPr/>
        </p:nvSpPr>
        <p:spPr>
          <a:xfrm flipH="1">
            <a:off x="1476360" y="4797360"/>
            <a:ext cx="503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Line 43"/>
          <p:cNvSpPr/>
          <p:nvPr/>
        </p:nvSpPr>
        <p:spPr>
          <a:xfrm flipH="1">
            <a:off x="1403280" y="4508640"/>
            <a:ext cx="9367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44"/>
          <p:cNvSpPr/>
          <p:nvPr/>
        </p:nvSpPr>
        <p:spPr>
          <a:xfrm flipH="1">
            <a:off x="1403280" y="4221000"/>
            <a:ext cx="1224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Line 45"/>
          <p:cNvSpPr/>
          <p:nvPr/>
        </p:nvSpPr>
        <p:spPr>
          <a:xfrm flipH="1">
            <a:off x="1476360" y="3933720"/>
            <a:ext cx="1440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46"/>
          <p:cNvSpPr/>
          <p:nvPr/>
        </p:nvSpPr>
        <p:spPr>
          <a:xfrm flipH="1">
            <a:off x="1476360" y="3645000"/>
            <a:ext cx="172728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327672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457200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6372360" y="2997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7667640" y="2997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51"/>
          <p:cNvSpPr/>
          <p:nvPr/>
        </p:nvSpPr>
        <p:spPr>
          <a:xfrm flipV="1">
            <a:off x="1619280" y="2349360"/>
            <a:ext cx="3024000" cy="273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Oval 2"/>
          <p:cNvSpPr/>
          <p:nvPr/>
        </p:nvSpPr>
        <p:spPr>
          <a:xfrm>
            <a:off x="1042920" y="476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Oval 3"/>
          <p:cNvSpPr/>
          <p:nvPr/>
        </p:nvSpPr>
        <p:spPr>
          <a:xfrm>
            <a:off x="3708360" y="148428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Oval 4"/>
          <p:cNvSpPr/>
          <p:nvPr/>
        </p:nvSpPr>
        <p:spPr>
          <a:xfrm>
            <a:off x="1692360" y="2997360"/>
            <a:ext cx="3529080" cy="360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979640" y="765000"/>
            <a:ext cx="1655640" cy="1109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01" name="Picture 6" descr="MMj03363960000[1]"/>
          <p:cNvPicPr/>
          <p:nvPr/>
        </p:nvPicPr>
        <p:blipFill>
          <a:blip r:embed="rId2"/>
          <a:stretch/>
        </p:blipFill>
        <p:spPr>
          <a:xfrm>
            <a:off x="5867280" y="213372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7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8" descr="MCj03333060000[1]"/>
          <p:cNvPicPr/>
          <p:nvPr/>
        </p:nvPicPr>
        <p:blipFill>
          <a:blip r:embed="rId3"/>
          <a:stretch/>
        </p:blipFill>
        <p:spPr>
          <a:xfrm>
            <a:off x="2195640" y="4221000"/>
            <a:ext cx="742680" cy="18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0" y="0"/>
          <a:ext cx="67564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756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/>
          <p:cNvSpPr/>
          <p:nvPr/>
        </p:nvSpPr>
        <p:spPr>
          <a:xfrm>
            <a:off x="5435640" y="4869000"/>
            <a:ext cx="2628720" cy="1800000"/>
          </a:xfrm>
          <a:prstGeom prst="wedgeEllipseCallout">
            <a:avLst>
              <a:gd name="adj1" fmla="val -114976"/>
              <a:gd name="adj2" fmla="val -2912"/>
            </a:avLst>
          </a:prstGeom>
          <a:solidFill>
            <a:srgbClr val="2b548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TODAS ESTAS ACTIVIDADES FRACASAN PORQUE NO SE PODÍAN HACER A PESAR DE QUE YO LO QUE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6767640" y="2492280"/>
            <a:ext cx="2376360" cy="1297080"/>
          </a:xfrm>
          <a:prstGeom prst="wedgeEllipseCallout">
            <a:avLst>
              <a:gd name="adj1" fmla="val -172379"/>
              <a:gd name="adj2" fmla="val 70685"/>
            </a:avLst>
          </a:prstGeom>
          <a:solidFill>
            <a:srgbClr val="2b5481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ESTAS ACTIVIDADES QUE HICE NO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5580000" y="692280"/>
            <a:ext cx="2233800" cy="1224000"/>
          </a:xfrm>
          <a:prstGeom prst="wedgeEllipseCallout">
            <a:avLst>
              <a:gd name="adj1" fmla="val -155615"/>
              <a:gd name="adj2" fmla="val 163620"/>
            </a:avLst>
          </a:prstGeom>
          <a:solidFill>
            <a:srgbClr val="2b5481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SÓLO ESTAS ACTIVIDADES APORTAN AVANCE SIGNIFICATIV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500720" y="189000"/>
            <a:ext cx="43192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dadada"/>
                </a:solidFill>
                <a:latin typeface="Arial"/>
              </a:rPr>
              <a:t>CLASIFICACIÓN DE ACTIVIDA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Oval 2"/>
          <p:cNvSpPr/>
          <p:nvPr/>
        </p:nvSpPr>
        <p:spPr>
          <a:xfrm>
            <a:off x="1481040" y="81000"/>
            <a:ext cx="6480360" cy="662616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PU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9900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Oval 3"/>
          <p:cNvSpPr/>
          <p:nvPr/>
        </p:nvSpPr>
        <p:spPr>
          <a:xfrm>
            <a:off x="2201760" y="801720"/>
            <a:ext cx="4896000" cy="518472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OY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Oval 4"/>
          <p:cNvSpPr/>
          <p:nvPr/>
        </p:nvSpPr>
        <p:spPr>
          <a:xfrm>
            <a:off x="2849400" y="1522440"/>
            <a:ext cx="3529080" cy="3600360"/>
          </a:xfrm>
          <a:prstGeom prst="ellipse">
            <a:avLst/>
          </a:prstGeom>
          <a:solidFill>
            <a:srgbClr val="2b5481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DEB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6ff"/>
                </a:solidFill>
                <a:latin typeface="Arial"/>
              </a:rPr>
              <a:t>HAC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5"/>
          <p:cNvSpPr/>
          <p:nvPr/>
        </p:nvSpPr>
        <p:spPr>
          <a:xfrm>
            <a:off x="4361040" y="81000"/>
            <a:ext cx="576000" cy="1441440"/>
          </a:xfrm>
          <a:prstGeom prst="upDownArrow">
            <a:avLst>
              <a:gd name="adj1" fmla="val 50000"/>
              <a:gd name="adj2" fmla="val 4981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CU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6" descr="MCj03710180000[1]"/>
          <p:cNvPicPr/>
          <p:nvPr/>
        </p:nvPicPr>
        <p:blipFill>
          <a:blip r:embed="rId1"/>
          <a:stretch/>
        </p:blipFill>
        <p:spPr>
          <a:xfrm>
            <a:off x="7294680" y="0"/>
            <a:ext cx="1849320" cy="196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MCj01504470000[1]"/>
          <p:cNvPicPr/>
          <p:nvPr/>
        </p:nvPicPr>
        <p:blipFill>
          <a:blip r:embed="rId2"/>
          <a:stretch/>
        </p:blipFill>
        <p:spPr>
          <a:xfrm>
            <a:off x="0" y="0"/>
            <a:ext cx="1352520" cy="182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MCj01501450000[1]"/>
          <p:cNvPicPr/>
          <p:nvPr/>
        </p:nvPicPr>
        <p:blipFill>
          <a:blip r:embed="rId3"/>
          <a:stretch/>
        </p:blipFill>
        <p:spPr>
          <a:xfrm>
            <a:off x="0" y="4581360"/>
            <a:ext cx="1803240" cy="2276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MCj01536020000[1]"/>
          <p:cNvPicPr/>
          <p:nvPr/>
        </p:nvPicPr>
        <p:blipFill>
          <a:blip r:embed="rId4"/>
          <a:stretch/>
        </p:blipFill>
        <p:spPr>
          <a:xfrm>
            <a:off x="7234200" y="4797360"/>
            <a:ext cx="1909800" cy="2060640"/>
          </a:xfrm>
          <a:prstGeom prst="rect">
            <a:avLst/>
          </a:prstGeom>
          <a:ln w="0">
            <a:noFill/>
          </a:ln>
        </p:spPr>
      </p:pic>
      <p:sp>
        <p:nvSpPr>
          <p:cNvPr id="218" name="SMARTPenAnnotation1"/>
          <p:cNvSpPr/>
          <p:nvPr/>
        </p:nvSpPr>
        <p:spPr>
          <a:xfrm>
            <a:off x="6769080" y="1054080"/>
            <a:ext cx="1152720" cy="1492200"/>
          </a:xfrm>
          <a:custGeom>
            <a:avLst/>
            <a:gdLst>
              <a:gd name="textAreaLeft" fmla="*/ 0 w 1152720"/>
              <a:gd name="textAreaRight" fmla="*/ 1153080 w 115272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726" h="940">
                <a:moveTo>
                  <a:pt x="152" y="0"/>
                </a:moveTo>
                <a:lnTo>
                  <a:pt x="155" y="0"/>
                </a:lnTo>
                <a:lnTo>
                  <a:pt x="156" y="1"/>
                </a:lnTo>
                <a:lnTo>
                  <a:pt x="157" y="4"/>
                </a:lnTo>
                <a:lnTo>
                  <a:pt x="157" y="8"/>
                </a:lnTo>
                <a:lnTo>
                  <a:pt x="158" y="9"/>
                </a:lnTo>
                <a:lnTo>
                  <a:pt x="159" y="9"/>
                </a:lnTo>
                <a:lnTo>
                  <a:pt x="160" y="10"/>
                </a:lnTo>
                <a:lnTo>
                  <a:pt x="161" y="11"/>
                </a:lnTo>
                <a:lnTo>
                  <a:pt x="162" y="12"/>
                </a:lnTo>
                <a:lnTo>
                  <a:pt x="163" y="16"/>
                </a:lnTo>
                <a:lnTo>
                  <a:pt x="171" y="27"/>
                </a:lnTo>
                <a:lnTo>
                  <a:pt x="181" y="53"/>
                </a:lnTo>
                <a:lnTo>
                  <a:pt x="187" y="67"/>
                </a:lnTo>
                <a:lnTo>
                  <a:pt x="194" y="91"/>
                </a:lnTo>
                <a:lnTo>
                  <a:pt x="196" y="115"/>
                </a:lnTo>
                <a:lnTo>
                  <a:pt x="195" y="123"/>
                </a:lnTo>
                <a:lnTo>
                  <a:pt x="189" y="138"/>
                </a:lnTo>
                <a:lnTo>
                  <a:pt x="186" y="142"/>
                </a:lnTo>
                <a:lnTo>
                  <a:pt x="170" y="155"/>
                </a:lnTo>
                <a:lnTo>
                  <a:pt x="157" y="164"/>
                </a:lnTo>
                <a:lnTo>
                  <a:pt x="146" y="173"/>
                </a:lnTo>
                <a:lnTo>
                  <a:pt x="123" y="187"/>
                </a:lnTo>
                <a:lnTo>
                  <a:pt x="107" y="198"/>
                </a:lnTo>
                <a:lnTo>
                  <a:pt x="89" y="212"/>
                </a:lnTo>
                <a:lnTo>
                  <a:pt x="68" y="229"/>
                </a:lnTo>
                <a:lnTo>
                  <a:pt x="56" y="237"/>
                </a:lnTo>
                <a:lnTo>
                  <a:pt x="49" y="244"/>
                </a:lnTo>
                <a:lnTo>
                  <a:pt x="28" y="271"/>
                </a:lnTo>
                <a:lnTo>
                  <a:pt x="16" y="290"/>
                </a:lnTo>
                <a:lnTo>
                  <a:pt x="13" y="298"/>
                </a:lnTo>
                <a:lnTo>
                  <a:pt x="11" y="310"/>
                </a:lnTo>
                <a:lnTo>
                  <a:pt x="13" y="316"/>
                </a:lnTo>
                <a:lnTo>
                  <a:pt x="15" y="323"/>
                </a:lnTo>
                <a:lnTo>
                  <a:pt x="17" y="333"/>
                </a:lnTo>
                <a:lnTo>
                  <a:pt x="19" y="338"/>
                </a:lnTo>
                <a:lnTo>
                  <a:pt x="37" y="359"/>
                </a:lnTo>
                <a:lnTo>
                  <a:pt x="56" y="381"/>
                </a:lnTo>
                <a:lnTo>
                  <a:pt x="75" y="402"/>
                </a:lnTo>
                <a:lnTo>
                  <a:pt x="92" y="426"/>
                </a:lnTo>
                <a:lnTo>
                  <a:pt x="103" y="451"/>
                </a:lnTo>
                <a:lnTo>
                  <a:pt x="111" y="475"/>
                </a:lnTo>
                <a:lnTo>
                  <a:pt x="112" y="485"/>
                </a:lnTo>
                <a:lnTo>
                  <a:pt x="108" y="502"/>
                </a:lnTo>
                <a:lnTo>
                  <a:pt x="104" y="512"/>
                </a:lnTo>
                <a:lnTo>
                  <a:pt x="99" y="521"/>
                </a:lnTo>
                <a:lnTo>
                  <a:pt x="79" y="549"/>
                </a:lnTo>
                <a:lnTo>
                  <a:pt x="59" y="571"/>
                </a:lnTo>
                <a:lnTo>
                  <a:pt x="40" y="588"/>
                </a:lnTo>
                <a:lnTo>
                  <a:pt x="20" y="605"/>
                </a:lnTo>
                <a:lnTo>
                  <a:pt x="15" y="611"/>
                </a:lnTo>
                <a:lnTo>
                  <a:pt x="12" y="616"/>
                </a:lnTo>
                <a:lnTo>
                  <a:pt x="3" y="629"/>
                </a:lnTo>
                <a:lnTo>
                  <a:pt x="1" y="634"/>
                </a:lnTo>
                <a:lnTo>
                  <a:pt x="0" y="641"/>
                </a:lnTo>
                <a:lnTo>
                  <a:pt x="0" y="664"/>
                </a:lnTo>
                <a:lnTo>
                  <a:pt x="0" y="666"/>
                </a:lnTo>
                <a:lnTo>
                  <a:pt x="8" y="679"/>
                </a:lnTo>
                <a:lnTo>
                  <a:pt x="13" y="685"/>
                </a:lnTo>
                <a:lnTo>
                  <a:pt x="35" y="701"/>
                </a:lnTo>
                <a:lnTo>
                  <a:pt x="57" y="721"/>
                </a:lnTo>
                <a:lnTo>
                  <a:pt x="69" y="733"/>
                </a:lnTo>
                <a:lnTo>
                  <a:pt x="74" y="741"/>
                </a:lnTo>
                <a:lnTo>
                  <a:pt x="76" y="746"/>
                </a:lnTo>
                <a:lnTo>
                  <a:pt x="77" y="749"/>
                </a:lnTo>
                <a:lnTo>
                  <a:pt x="80" y="753"/>
                </a:lnTo>
                <a:lnTo>
                  <a:pt x="81" y="755"/>
                </a:lnTo>
                <a:lnTo>
                  <a:pt x="82" y="758"/>
                </a:lnTo>
                <a:lnTo>
                  <a:pt x="84" y="767"/>
                </a:lnTo>
                <a:lnTo>
                  <a:pt x="88" y="774"/>
                </a:lnTo>
                <a:lnTo>
                  <a:pt x="95" y="799"/>
                </a:lnTo>
                <a:lnTo>
                  <a:pt x="95" y="825"/>
                </a:lnTo>
                <a:lnTo>
                  <a:pt x="96" y="833"/>
                </a:lnTo>
                <a:lnTo>
                  <a:pt x="98" y="841"/>
                </a:lnTo>
                <a:lnTo>
                  <a:pt x="103" y="849"/>
                </a:lnTo>
                <a:lnTo>
                  <a:pt x="120" y="868"/>
                </a:lnTo>
                <a:lnTo>
                  <a:pt x="142" y="882"/>
                </a:lnTo>
                <a:lnTo>
                  <a:pt x="151" y="886"/>
                </a:lnTo>
                <a:lnTo>
                  <a:pt x="163" y="889"/>
                </a:lnTo>
                <a:lnTo>
                  <a:pt x="170" y="892"/>
                </a:lnTo>
                <a:lnTo>
                  <a:pt x="185" y="894"/>
                </a:lnTo>
                <a:lnTo>
                  <a:pt x="200" y="894"/>
                </a:lnTo>
                <a:lnTo>
                  <a:pt x="203" y="893"/>
                </a:lnTo>
                <a:lnTo>
                  <a:pt x="212" y="890"/>
                </a:lnTo>
                <a:lnTo>
                  <a:pt x="221" y="888"/>
                </a:lnTo>
                <a:lnTo>
                  <a:pt x="238" y="879"/>
                </a:lnTo>
                <a:lnTo>
                  <a:pt x="249" y="870"/>
                </a:lnTo>
                <a:lnTo>
                  <a:pt x="267" y="852"/>
                </a:lnTo>
                <a:lnTo>
                  <a:pt x="287" y="836"/>
                </a:lnTo>
                <a:lnTo>
                  <a:pt x="295" y="825"/>
                </a:lnTo>
                <a:lnTo>
                  <a:pt x="305" y="817"/>
                </a:lnTo>
                <a:lnTo>
                  <a:pt x="313" y="808"/>
                </a:lnTo>
                <a:lnTo>
                  <a:pt x="327" y="797"/>
                </a:lnTo>
                <a:lnTo>
                  <a:pt x="339" y="791"/>
                </a:lnTo>
                <a:lnTo>
                  <a:pt x="358" y="785"/>
                </a:lnTo>
                <a:lnTo>
                  <a:pt x="379" y="780"/>
                </a:lnTo>
                <a:lnTo>
                  <a:pt x="398" y="777"/>
                </a:lnTo>
                <a:lnTo>
                  <a:pt x="417" y="776"/>
                </a:lnTo>
                <a:lnTo>
                  <a:pt x="425" y="776"/>
                </a:lnTo>
                <a:lnTo>
                  <a:pt x="433" y="778"/>
                </a:lnTo>
                <a:lnTo>
                  <a:pt x="454" y="784"/>
                </a:lnTo>
                <a:lnTo>
                  <a:pt x="463" y="787"/>
                </a:lnTo>
                <a:lnTo>
                  <a:pt x="482" y="799"/>
                </a:lnTo>
                <a:lnTo>
                  <a:pt x="490" y="804"/>
                </a:lnTo>
                <a:lnTo>
                  <a:pt x="494" y="806"/>
                </a:lnTo>
                <a:lnTo>
                  <a:pt x="499" y="811"/>
                </a:lnTo>
                <a:lnTo>
                  <a:pt x="501" y="815"/>
                </a:lnTo>
                <a:lnTo>
                  <a:pt x="507" y="820"/>
                </a:lnTo>
                <a:lnTo>
                  <a:pt x="521" y="831"/>
                </a:lnTo>
                <a:lnTo>
                  <a:pt x="538" y="847"/>
                </a:lnTo>
                <a:lnTo>
                  <a:pt x="560" y="862"/>
                </a:lnTo>
                <a:lnTo>
                  <a:pt x="578" y="877"/>
                </a:lnTo>
                <a:lnTo>
                  <a:pt x="592" y="890"/>
                </a:lnTo>
                <a:lnTo>
                  <a:pt x="604" y="896"/>
                </a:lnTo>
                <a:lnTo>
                  <a:pt x="623" y="902"/>
                </a:lnTo>
                <a:lnTo>
                  <a:pt x="626" y="903"/>
                </a:lnTo>
                <a:lnTo>
                  <a:pt x="628" y="902"/>
                </a:lnTo>
                <a:lnTo>
                  <a:pt x="631" y="902"/>
                </a:lnTo>
                <a:lnTo>
                  <a:pt x="643" y="900"/>
                </a:lnTo>
                <a:lnTo>
                  <a:pt x="648" y="900"/>
                </a:lnTo>
                <a:lnTo>
                  <a:pt x="667" y="904"/>
                </a:lnTo>
                <a:lnTo>
                  <a:pt x="679" y="905"/>
                </a:lnTo>
                <a:lnTo>
                  <a:pt x="681" y="907"/>
                </a:lnTo>
                <a:lnTo>
                  <a:pt x="694" y="919"/>
                </a:lnTo>
                <a:lnTo>
                  <a:pt x="696" y="920"/>
                </a:lnTo>
                <a:lnTo>
                  <a:pt x="702" y="921"/>
                </a:lnTo>
                <a:lnTo>
                  <a:pt x="705" y="923"/>
                </a:lnTo>
                <a:lnTo>
                  <a:pt x="712" y="930"/>
                </a:lnTo>
                <a:lnTo>
                  <a:pt x="714" y="931"/>
                </a:lnTo>
                <a:lnTo>
                  <a:pt x="718" y="932"/>
                </a:lnTo>
                <a:lnTo>
                  <a:pt x="722" y="933"/>
                </a:lnTo>
                <a:lnTo>
                  <a:pt x="723" y="934"/>
                </a:lnTo>
                <a:lnTo>
                  <a:pt x="724" y="935"/>
                </a:lnTo>
                <a:lnTo>
                  <a:pt x="725" y="93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SMARTPenAnnotation2"/>
          <p:cNvSpPr/>
          <p:nvPr/>
        </p:nvSpPr>
        <p:spPr>
          <a:xfrm>
            <a:off x="6062760" y="4422600"/>
            <a:ext cx="1735200" cy="1954440"/>
          </a:xfrm>
          <a:custGeom>
            <a:avLst/>
            <a:gdLst>
              <a:gd name="textAreaLeft" fmla="*/ 0 w 1735200"/>
              <a:gd name="textAreaRight" fmla="*/ 1735560 w 1735200"/>
              <a:gd name="textAreaTop" fmla="*/ 0 h 1954440"/>
              <a:gd name="textAreaBottom" fmla="*/ 1954800 h 1954440"/>
            </a:gdLst>
            <a:ahLst/>
            <a:rect l="textAreaLeft" t="textAreaTop" r="textAreaRight" b="textAreaBottom"/>
            <a:pathLst>
              <a:path w="1093" h="1231">
                <a:moveTo>
                  <a:pt x="1092" y="10"/>
                </a:moveTo>
                <a:lnTo>
                  <a:pt x="1092" y="16"/>
                </a:lnTo>
                <a:lnTo>
                  <a:pt x="1091" y="17"/>
                </a:lnTo>
                <a:lnTo>
                  <a:pt x="1090" y="19"/>
                </a:lnTo>
                <a:lnTo>
                  <a:pt x="1089" y="19"/>
                </a:lnTo>
                <a:lnTo>
                  <a:pt x="1088" y="20"/>
                </a:lnTo>
                <a:lnTo>
                  <a:pt x="1087" y="22"/>
                </a:lnTo>
                <a:lnTo>
                  <a:pt x="1087" y="23"/>
                </a:lnTo>
                <a:lnTo>
                  <a:pt x="1085" y="24"/>
                </a:lnTo>
                <a:lnTo>
                  <a:pt x="1078" y="27"/>
                </a:lnTo>
                <a:lnTo>
                  <a:pt x="1070" y="31"/>
                </a:lnTo>
                <a:lnTo>
                  <a:pt x="1067" y="35"/>
                </a:lnTo>
                <a:lnTo>
                  <a:pt x="1065" y="36"/>
                </a:lnTo>
                <a:lnTo>
                  <a:pt x="1060" y="38"/>
                </a:lnTo>
                <a:lnTo>
                  <a:pt x="1054" y="41"/>
                </a:lnTo>
                <a:lnTo>
                  <a:pt x="1048" y="43"/>
                </a:lnTo>
                <a:lnTo>
                  <a:pt x="1043" y="47"/>
                </a:lnTo>
                <a:lnTo>
                  <a:pt x="1037" y="49"/>
                </a:lnTo>
                <a:lnTo>
                  <a:pt x="1032" y="53"/>
                </a:lnTo>
                <a:lnTo>
                  <a:pt x="1028" y="54"/>
                </a:lnTo>
                <a:lnTo>
                  <a:pt x="999" y="58"/>
                </a:lnTo>
                <a:lnTo>
                  <a:pt x="983" y="59"/>
                </a:lnTo>
                <a:lnTo>
                  <a:pt x="979" y="59"/>
                </a:lnTo>
                <a:lnTo>
                  <a:pt x="955" y="54"/>
                </a:lnTo>
                <a:lnTo>
                  <a:pt x="931" y="51"/>
                </a:lnTo>
                <a:lnTo>
                  <a:pt x="902" y="46"/>
                </a:lnTo>
                <a:lnTo>
                  <a:pt x="882" y="43"/>
                </a:lnTo>
                <a:lnTo>
                  <a:pt x="857" y="35"/>
                </a:lnTo>
                <a:lnTo>
                  <a:pt x="827" y="29"/>
                </a:lnTo>
                <a:lnTo>
                  <a:pt x="799" y="23"/>
                </a:lnTo>
                <a:lnTo>
                  <a:pt x="766" y="18"/>
                </a:lnTo>
                <a:lnTo>
                  <a:pt x="747" y="16"/>
                </a:lnTo>
                <a:lnTo>
                  <a:pt x="732" y="15"/>
                </a:lnTo>
                <a:lnTo>
                  <a:pt x="713" y="11"/>
                </a:lnTo>
                <a:lnTo>
                  <a:pt x="683" y="9"/>
                </a:lnTo>
                <a:lnTo>
                  <a:pt x="651" y="6"/>
                </a:lnTo>
                <a:lnTo>
                  <a:pt x="619" y="4"/>
                </a:lnTo>
                <a:lnTo>
                  <a:pt x="596" y="1"/>
                </a:lnTo>
                <a:lnTo>
                  <a:pt x="572" y="0"/>
                </a:lnTo>
                <a:lnTo>
                  <a:pt x="544" y="0"/>
                </a:lnTo>
                <a:lnTo>
                  <a:pt x="520" y="2"/>
                </a:lnTo>
                <a:lnTo>
                  <a:pt x="491" y="3"/>
                </a:lnTo>
                <a:lnTo>
                  <a:pt x="471" y="4"/>
                </a:lnTo>
                <a:lnTo>
                  <a:pt x="456" y="8"/>
                </a:lnTo>
                <a:lnTo>
                  <a:pt x="424" y="13"/>
                </a:lnTo>
                <a:lnTo>
                  <a:pt x="392" y="20"/>
                </a:lnTo>
                <a:lnTo>
                  <a:pt x="385" y="22"/>
                </a:lnTo>
                <a:lnTo>
                  <a:pt x="378" y="27"/>
                </a:lnTo>
                <a:lnTo>
                  <a:pt x="367" y="37"/>
                </a:lnTo>
                <a:lnTo>
                  <a:pt x="363" y="42"/>
                </a:lnTo>
                <a:lnTo>
                  <a:pt x="358" y="52"/>
                </a:lnTo>
                <a:lnTo>
                  <a:pt x="355" y="57"/>
                </a:lnTo>
                <a:lnTo>
                  <a:pt x="348" y="63"/>
                </a:lnTo>
                <a:lnTo>
                  <a:pt x="342" y="68"/>
                </a:lnTo>
                <a:lnTo>
                  <a:pt x="335" y="71"/>
                </a:lnTo>
                <a:lnTo>
                  <a:pt x="327" y="77"/>
                </a:lnTo>
                <a:lnTo>
                  <a:pt x="325" y="79"/>
                </a:lnTo>
                <a:lnTo>
                  <a:pt x="322" y="80"/>
                </a:lnTo>
                <a:lnTo>
                  <a:pt x="316" y="82"/>
                </a:lnTo>
                <a:lnTo>
                  <a:pt x="302" y="83"/>
                </a:lnTo>
                <a:lnTo>
                  <a:pt x="287" y="87"/>
                </a:lnTo>
                <a:lnTo>
                  <a:pt x="260" y="89"/>
                </a:lnTo>
                <a:lnTo>
                  <a:pt x="229" y="93"/>
                </a:lnTo>
                <a:lnTo>
                  <a:pt x="199" y="99"/>
                </a:lnTo>
                <a:lnTo>
                  <a:pt x="190" y="101"/>
                </a:lnTo>
                <a:lnTo>
                  <a:pt x="183" y="103"/>
                </a:lnTo>
                <a:lnTo>
                  <a:pt x="162" y="106"/>
                </a:lnTo>
                <a:lnTo>
                  <a:pt x="157" y="108"/>
                </a:lnTo>
                <a:lnTo>
                  <a:pt x="151" y="113"/>
                </a:lnTo>
                <a:lnTo>
                  <a:pt x="148" y="114"/>
                </a:lnTo>
                <a:lnTo>
                  <a:pt x="142" y="115"/>
                </a:lnTo>
                <a:lnTo>
                  <a:pt x="140" y="116"/>
                </a:lnTo>
                <a:lnTo>
                  <a:pt x="138" y="118"/>
                </a:lnTo>
                <a:lnTo>
                  <a:pt x="137" y="119"/>
                </a:lnTo>
                <a:lnTo>
                  <a:pt x="136" y="120"/>
                </a:lnTo>
                <a:lnTo>
                  <a:pt x="135" y="121"/>
                </a:lnTo>
                <a:lnTo>
                  <a:pt x="133" y="121"/>
                </a:lnTo>
                <a:lnTo>
                  <a:pt x="132" y="122"/>
                </a:lnTo>
                <a:lnTo>
                  <a:pt x="131" y="123"/>
                </a:lnTo>
                <a:lnTo>
                  <a:pt x="130" y="126"/>
                </a:lnTo>
                <a:lnTo>
                  <a:pt x="130" y="152"/>
                </a:lnTo>
                <a:lnTo>
                  <a:pt x="131" y="160"/>
                </a:lnTo>
                <a:lnTo>
                  <a:pt x="134" y="169"/>
                </a:lnTo>
                <a:lnTo>
                  <a:pt x="143" y="207"/>
                </a:lnTo>
                <a:lnTo>
                  <a:pt x="148" y="228"/>
                </a:lnTo>
                <a:lnTo>
                  <a:pt x="150" y="236"/>
                </a:lnTo>
                <a:lnTo>
                  <a:pt x="152" y="255"/>
                </a:lnTo>
                <a:lnTo>
                  <a:pt x="152" y="290"/>
                </a:lnTo>
                <a:lnTo>
                  <a:pt x="145" y="329"/>
                </a:lnTo>
                <a:lnTo>
                  <a:pt x="132" y="366"/>
                </a:lnTo>
                <a:lnTo>
                  <a:pt x="126" y="378"/>
                </a:lnTo>
                <a:lnTo>
                  <a:pt x="123" y="387"/>
                </a:lnTo>
                <a:lnTo>
                  <a:pt x="113" y="412"/>
                </a:lnTo>
                <a:lnTo>
                  <a:pt x="110" y="417"/>
                </a:lnTo>
                <a:lnTo>
                  <a:pt x="107" y="425"/>
                </a:lnTo>
                <a:lnTo>
                  <a:pt x="98" y="438"/>
                </a:lnTo>
                <a:lnTo>
                  <a:pt x="66" y="473"/>
                </a:lnTo>
                <a:lnTo>
                  <a:pt x="61" y="478"/>
                </a:lnTo>
                <a:lnTo>
                  <a:pt x="60" y="480"/>
                </a:lnTo>
                <a:lnTo>
                  <a:pt x="52" y="505"/>
                </a:lnTo>
                <a:lnTo>
                  <a:pt x="51" y="515"/>
                </a:lnTo>
                <a:lnTo>
                  <a:pt x="53" y="522"/>
                </a:lnTo>
                <a:lnTo>
                  <a:pt x="64" y="558"/>
                </a:lnTo>
                <a:lnTo>
                  <a:pt x="71" y="579"/>
                </a:lnTo>
                <a:lnTo>
                  <a:pt x="74" y="593"/>
                </a:lnTo>
                <a:lnTo>
                  <a:pt x="84" y="627"/>
                </a:lnTo>
                <a:lnTo>
                  <a:pt x="93" y="664"/>
                </a:lnTo>
                <a:lnTo>
                  <a:pt x="100" y="693"/>
                </a:lnTo>
                <a:lnTo>
                  <a:pt x="101" y="698"/>
                </a:lnTo>
                <a:lnTo>
                  <a:pt x="97" y="729"/>
                </a:lnTo>
                <a:lnTo>
                  <a:pt x="93" y="742"/>
                </a:lnTo>
                <a:lnTo>
                  <a:pt x="88" y="751"/>
                </a:lnTo>
                <a:lnTo>
                  <a:pt x="57" y="788"/>
                </a:lnTo>
                <a:lnTo>
                  <a:pt x="44" y="807"/>
                </a:lnTo>
                <a:lnTo>
                  <a:pt x="42" y="814"/>
                </a:lnTo>
                <a:lnTo>
                  <a:pt x="32" y="848"/>
                </a:lnTo>
                <a:lnTo>
                  <a:pt x="30" y="860"/>
                </a:lnTo>
                <a:lnTo>
                  <a:pt x="31" y="869"/>
                </a:lnTo>
                <a:lnTo>
                  <a:pt x="47" y="934"/>
                </a:lnTo>
                <a:lnTo>
                  <a:pt x="59" y="963"/>
                </a:lnTo>
                <a:lnTo>
                  <a:pt x="74" y="997"/>
                </a:lnTo>
                <a:lnTo>
                  <a:pt x="77" y="1014"/>
                </a:lnTo>
                <a:lnTo>
                  <a:pt x="80" y="1029"/>
                </a:lnTo>
                <a:lnTo>
                  <a:pt x="83" y="1043"/>
                </a:lnTo>
                <a:lnTo>
                  <a:pt x="84" y="1047"/>
                </a:lnTo>
                <a:lnTo>
                  <a:pt x="80" y="1089"/>
                </a:lnTo>
                <a:lnTo>
                  <a:pt x="79" y="1095"/>
                </a:lnTo>
                <a:lnTo>
                  <a:pt x="78" y="1102"/>
                </a:lnTo>
                <a:lnTo>
                  <a:pt x="71" y="1116"/>
                </a:lnTo>
                <a:lnTo>
                  <a:pt x="51" y="1149"/>
                </a:lnTo>
                <a:lnTo>
                  <a:pt x="41" y="1177"/>
                </a:lnTo>
                <a:lnTo>
                  <a:pt x="36" y="1184"/>
                </a:lnTo>
                <a:lnTo>
                  <a:pt x="35" y="1187"/>
                </a:lnTo>
                <a:lnTo>
                  <a:pt x="34" y="1193"/>
                </a:lnTo>
                <a:lnTo>
                  <a:pt x="34" y="1194"/>
                </a:lnTo>
                <a:lnTo>
                  <a:pt x="33" y="1195"/>
                </a:lnTo>
                <a:lnTo>
                  <a:pt x="31" y="1195"/>
                </a:lnTo>
                <a:lnTo>
                  <a:pt x="30" y="1196"/>
                </a:lnTo>
                <a:lnTo>
                  <a:pt x="30" y="1198"/>
                </a:lnTo>
                <a:lnTo>
                  <a:pt x="29" y="1201"/>
                </a:lnTo>
                <a:lnTo>
                  <a:pt x="29" y="1204"/>
                </a:lnTo>
                <a:lnTo>
                  <a:pt x="28" y="1205"/>
                </a:lnTo>
                <a:lnTo>
                  <a:pt x="27" y="1206"/>
                </a:lnTo>
                <a:lnTo>
                  <a:pt x="26" y="1207"/>
                </a:lnTo>
                <a:lnTo>
                  <a:pt x="21" y="1210"/>
                </a:lnTo>
                <a:lnTo>
                  <a:pt x="20" y="1212"/>
                </a:lnTo>
                <a:lnTo>
                  <a:pt x="17" y="1217"/>
                </a:lnTo>
                <a:lnTo>
                  <a:pt x="8" y="1229"/>
                </a:lnTo>
                <a:lnTo>
                  <a:pt x="0" y="12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SMARTPenAnnotation3"/>
          <p:cNvSpPr/>
          <p:nvPr/>
        </p:nvSpPr>
        <p:spPr>
          <a:xfrm>
            <a:off x="1500120" y="1258920"/>
            <a:ext cx="1011240" cy="176040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760400"/>
              <a:gd name="textAreaBottom" fmla="*/ 1760760 h 1760400"/>
            </a:gdLst>
            <a:ahLst/>
            <a:rect l="textAreaLeft" t="textAreaTop" r="textAreaRight" b="textAreaBottom"/>
            <a:pathLst>
              <a:path w="637" h="1109">
                <a:moveTo>
                  <a:pt x="467" y="0"/>
                </a:moveTo>
                <a:lnTo>
                  <a:pt x="470" y="0"/>
                </a:lnTo>
                <a:lnTo>
                  <a:pt x="471" y="1"/>
                </a:lnTo>
                <a:lnTo>
                  <a:pt x="471" y="2"/>
                </a:lnTo>
                <a:lnTo>
                  <a:pt x="472" y="5"/>
                </a:lnTo>
                <a:lnTo>
                  <a:pt x="475" y="9"/>
                </a:lnTo>
                <a:lnTo>
                  <a:pt x="476" y="10"/>
                </a:lnTo>
                <a:lnTo>
                  <a:pt x="478" y="15"/>
                </a:lnTo>
                <a:lnTo>
                  <a:pt x="484" y="23"/>
                </a:lnTo>
                <a:lnTo>
                  <a:pt x="498" y="37"/>
                </a:lnTo>
                <a:lnTo>
                  <a:pt x="499" y="39"/>
                </a:lnTo>
                <a:lnTo>
                  <a:pt x="500" y="45"/>
                </a:lnTo>
                <a:lnTo>
                  <a:pt x="505" y="53"/>
                </a:lnTo>
                <a:lnTo>
                  <a:pt x="517" y="70"/>
                </a:lnTo>
                <a:lnTo>
                  <a:pt x="535" y="101"/>
                </a:lnTo>
                <a:lnTo>
                  <a:pt x="554" y="127"/>
                </a:lnTo>
                <a:lnTo>
                  <a:pt x="572" y="150"/>
                </a:lnTo>
                <a:lnTo>
                  <a:pt x="587" y="167"/>
                </a:lnTo>
                <a:lnTo>
                  <a:pt x="605" y="196"/>
                </a:lnTo>
                <a:lnTo>
                  <a:pt x="618" y="221"/>
                </a:lnTo>
                <a:lnTo>
                  <a:pt x="626" y="242"/>
                </a:lnTo>
                <a:lnTo>
                  <a:pt x="632" y="253"/>
                </a:lnTo>
                <a:lnTo>
                  <a:pt x="634" y="266"/>
                </a:lnTo>
                <a:lnTo>
                  <a:pt x="636" y="299"/>
                </a:lnTo>
                <a:lnTo>
                  <a:pt x="636" y="310"/>
                </a:lnTo>
                <a:lnTo>
                  <a:pt x="634" y="316"/>
                </a:lnTo>
                <a:lnTo>
                  <a:pt x="631" y="326"/>
                </a:lnTo>
                <a:lnTo>
                  <a:pt x="624" y="357"/>
                </a:lnTo>
                <a:lnTo>
                  <a:pt x="617" y="379"/>
                </a:lnTo>
                <a:lnTo>
                  <a:pt x="610" y="392"/>
                </a:lnTo>
                <a:lnTo>
                  <a:pt x="608" y="401"/>
                </a:lnTo>
                <a:lnTo>
                  <a:pt x="598" y="418"/>
                </a:lnTo>
                <a:lnTo>
                  <a:pt x="579" y="443"/>
                </a:lnTo>
                <a:lnTo>
                  <a:pt x="569" y="455"/>
                </a:lnTo>
                <a:lnTo>
                  <a:pt x="552" y="468"/>
                </a:lnTo>
                <a:lnTo>
                  <a:pt x="546" y="473"/>
                </a:lnTo>
                <a:lnTo>
                  <a:pt x="539" y="483"/>
                </a:lnTo>
                <a:lnTo>
                  <a:pt x="536" y="488"/>
                </a:lnTo>
                <a:lnTo>
                  <a:pt x="536" y="491"/>
                </a:lnTo>
                <a:lnTo>
                  <a:pt x="533" y="495"/>
                </a:lnTo>
                <a:lnTo>
                  <a:pt x="525" y="504"/>
                </a:lnTo>
                <a:lnTo>
                  <a:pt x="520" y="520"/>
                </a:lnTo>
                <a:lnTo>
                  <a:pt x="518" y="535"/>
                </a:lnTo>
                <a:lnTo>
                  <a:pt x="518" y="547"/>
                </a:lnTo>
                <a:lnTo>
                  <a:pt x="523" y="575"/>
                </a:lnTo>
                <a:lnTo>
                  <a:pt x="523" y="608"/>
                </a:lnTo>
                <a:lnTo>
                  <a:pt x="520" y="625"/>
                </a:lnTo>
                <a:lnTo>
                  <a:pt x="517" y="632"/>
                </a:lnTo>
                <a:lnTo>
                  <a:pt x="512" y="644"/>
                </a:lnTo>
                <a:lnTo>
                  <a:pt x="507" y="653"/>
                </a:lnTo>
                <a:lnTo>
                  <a:pt x="494" y="669"/>
                </a:lnTo>
                <a:lnTo>
                  <a:pt x="477" y="688"/>
                </a:lnTo>
                <a:lnTo>
                  <a:pt x="443" y="721"/>
                </a:lnTo>
                <a:lnTo>
                  <a:pt x="431" y="738"/>
                </a:lnTo>
                <a:lnTo>
                  <a:pt x="420" y="765"/>
                </a:lnTo>
                <a:lnTo>
                  <a:pt x="419" y="768"/>
                </a:lnTo>
                <a:lnTo>
                  <a:pt x="420" y="771"/>
                </a:lnTo>
                <a:lnTo>
                  <a:pt x="421" y="779"/>
                </a:lnTo>
                <a:lnTo>
                  <a:pt x="425" y="790"/>
                </a:lnTo>
                <a:lnTo>
                  <a:pt x="427" y="806"/>
                </a:lnTo>
                <a:lnTo>
                  <a:pt x="428" y="816"/>
                </a:lnTo>
                <a:lnTo>
                  <a:pt x="433" y="843"/>
                </a:lnTo>
                <a:lnTo>
                  <a:pt x="433" y="851"/>
                </a:lnTo>
                <a:lnTo>
                  <a:pt x="430" y="863"/>
                </a:lnTo>
                <a:lnTo>
                  <a:pt x="427" y="870"/>
                </a:lnTo>
                <a:lnTo>
                  <a:pt x="425" y="872"/>
                </a:lnTo>
                <a:lnTo>
                  <a:pt x="420" y="877"/>
                </a:lnTo>
                <a:lnTo>
                  <a:pt x="407" y="887"/>
                </a:lnTo>
                <a:lnTo>
                  <a:pt x="403" y="891"/>
                </a:lnTo>
                <a:lnTo>
                  <a:pt x="401" y="892"/>
                </a:lnTo>
                <a:lnTo>
                  <a:pt x="396" y="894"/>
                </a:lnTo>
                <a:lnTo>
                  <a:pt x="392" y="897"/>
                </a:lnTo>
                <a:lnTo>
                  <a:pt x="389" y="898"/>
                </a:lnTo>
                <a:lnTo>
                  <a:pt x="381" y="900"/>
                </a:lnTo>
                <a:lnTo>
                  <a:pt x="373" y="904"/>
                </a:lnTo>
                <a:lnTo>
                  <a:pt x="363" y="905"/>
                </a:lnTo>
                <a:lnTo>
                  <a:pt x="348" y="906"/>
                </a:lnTo>
                <a:lnTo>
                  <a:pt x="332" y="909"/>
                </a:lnTo>
                <a:lnTo>
                  <a:pt x="313" y="913"/>
                </a:lnTo>
                <a:lnTo>
                  <a:pt x="298" y="917"/>
                </a:lnTo>
                <a:lnTo>
                  <a:pt x="289" y="921"/>
                </a:lnTo>
                <a:lnTo>
                  <a:pt x="280" y="923"/>
                </a:lnTo>
                <a:lnTo>
                  <a:pt x="263" y="932"/>
                </a:lnTo>
                <a:lnTo>
                  <a:pt x="256" y="937"/>
                </a:lnTo>
                <a:lnTo>
                  <a:pt x="252" y="938"/>
                </a:lnTo>
                <a:lnTo>
                  <a:pt x="233" y="954"/>
                </a:lnTo>
                <a:lnTo>
                  <a:pt x="224" y="963"/>
                </a:lnTo>
                <a:lnTo>
                  <a:pt x="222" y="965"/>
                </a:lnTo>
                <a:lnTo>
                  <a:pt x="214" y="969"/>
                </a:lnTo>
                <a:lnTo>
                  <a:pt x="197" y="980"/>
                </a:lnTo>
                <a:lnTo>
                  <a:pt x="181" y="991"/>
                </a:lnTo>
                <a:lnTo>
                  <a:pt x="164" y="1001"/>
                </a:lnTo>
                <a:lnTo>
                  <a:pt x="155" y="1005"/>
                </a:lnTo>
                <a:lnTo>
                  <a:pt x="137" y="1011"/>
                </a:lnTo>
                <a:lnTo>
                  <a:pt x="125" y="1017"/>
                </a:lnTo>
                <a:lnTo>
                  <a:pt x="120" y="1018"/>
                </a:lnTo>
                <a:lnTo>
                  <a:pt x="108" y="1023"/>
                </a:lnTo>
                <a:lnTo>
                  <a:pt x="100" y="1023"/>
                </a:lnTo>
                <a:lnTo>
                  <a:pt x="97" y="1024"/>
                </a:lnTo>
                <a:lnTo>
                  <a:pt x="90" y="1025"/>
                </a:lnTo>
                <a:lnTo>
                  <a:pt x="80" y="1028"/>
                </a:lnTo>
                <a:lnTo>
                  <a:pt x="78" y="1029"/>
                </a:lnTo>
                <a:lnTo>
                  <a:pt x="74" y="1031"/>
                </a:lnTo>
                <a:lnTo>
                  <a:pt x="69" y="1034"/>
                </a:lnTo>
                <a:lnTo>
                  <a:pt x="66" y="1035"/>
                </a:lnTo>
                <a:lnTo>
                  <a:pt x="65" y="1035"/>
                </a:lnTo>
                <a:lnTo>
                  <a:pt x="63" y="1036"/>
                </a:lnTo>
                <a:lnTo>
                  <a:pt x="57" y="1040"/>
                </a:lnTo>
                <a:lnTo>
                  <a:pt x="51" y="1046"/>
                </a:lnTo>
                <a:lnTo>
                  <a:pt x="51" y="1049"/>
                </a:lnTo>
                <a:lnTo>
                  <a:pt x="46" y="1063"/>
                </a:lnTo>
                <a:lnTo>
                  <a:pt x="45" y="1066"/>
                </a:lnTo>
                <a:lnTo>
                  <a:pt x="45" y="1067"/>
                </a:lnTo>
                <a:lnTo>
                  <a:pt x="40" y="1073"/>
                </a:lnTo>
                <a:lnTo>
                  <a:pt x="40" y="1076"/>
                </a:lnTo>
                <a:lnTo>
                  <a:pt x="39" y="1079"/>
                </a:lnTo>
                <a:lnTo>
                  <a:pt x="35" y="1085"/>
                </a:lnTo>
                <a:lnTo>
                  <a:pt x="26" y="1094"/>
                </a:lnTo>
                <a:lnTo>
                  <a:pt x="24" y="1095"/>
                </a:lnTo>
                <a:lnTo>
                  <a:pt x="14" y="1100"/>
                </a:lnTo>
                <a:lnTo>
                  <a:pt x="0" y="11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SMARTPenAnnotation4"/>
          <p:cNvSpPr/>
          <p:nvPr/>
        </p:nvSpPr>
        <p:spPr>
          <a:xfrm>
            <a:off x="1206360" y="4599000"/>
            <a:ext cx="401760" cy="216000"/>
          </a:xfrm>
          <a:custGeom>
            <a:avLst/>
            <a:gdLst>
              <a:gd name="textAreaLeft" fmla="*/ 0 w 401760"/>
              <a:gd name="textAreaRight" fmla="*/ 402120 w 4017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53" h="136">
                <a:moveTo>
                  <a:pt x="202" y="22"/>
                </a:moveTo>
                <a:lnTo>
                  <a:pt x="197" y="22"/>
                </a:lnTo>
                <a:lnTo>
                  <a:pt x="193" y="19"/>
                </a:lnTo>
                <a:lnTo>
                  <a:pt x="189" y="15"/>
                </a:lnTo>
                <a:lnTo>
                  <a:pt x="188" y="14"/>
                </a:lnTo>
                <a:lnTo>
                  <a:pt x="186" y="13"/>
                </a:lnTo>
                <a:lnTo>
                  <a:pt x="180" y="12"/>
                </a:lnTo>
                <a:lnTo>
                  <a:pt x="175" y="10"/>
                </a:lnTo>
                <a:lnTo>
                  <a:pt x="173" y="8"/>
                </a:lnTo>
                <a:lnTo>
                  <a:pt x="167" y="7"/>
                </a:lnTo>
                <a:lnTo>
                  <a:pt x="163" y="6"/>
                </a:lnTo>
                <a:lnTo>
                  <a:pt x="158" y="4"/>
                </a:lnTo>
                <a:lnTo>
                  <a:pt x="154" y="2"/>
                </a:lnTo>
                <a:lnTo>
                  <a:pt x="150" y="1"/>
                </a:lnTo>
                <a:lnTo>
                  <a:pt x="144" y="0"/>
                </a:lnTo>
                <a:lnTo>
                  <a:pt x="137" y="0"/>
                </a:lnTo>
                <a:lnTo>
                  <a:pt x="132" y="0"/>
                </a:lnTo>
                <a:lnTo>
                  <a:pt x="120" y="0"/>
                </a:lnTo>
                <a:lnTo>
                  <a:pt x="81" y="0"/>
                </a:lnTo>
                <a:lnTo>
                  <a:pt x="77" y="1"/>
                </a:lnTo>
                <a:lnTo>
                  <a:pt x="73" y="2"/>
                </a:lnTo>
                <a:lnTo>
                  <a:pt x="66" y="4"/>
                </a:lnTo>
                <a:lnTo>
                  <a:pt x="61" y="5"/>
                </a:lnTo>
                <a:lnTo>
                  <a:pt x="56" y="6"/>
                </a:lnTo>
                <a:lnTo>
                  <a:pt x="51" y="8"/>
                </a:lnTo>
                <a:lnTo>
                  <a:pt x="45" y="11"/>
                </a:lnTo>
                <a:lnTo>
                  <a:pt x="41" y="14"/>
                </a:lnTo>
                <a:lnTo>
                  <a:pt x="37" y="16"/>
                </a:lnTo>
                <a:lnTo>
                  <a:pt x="31" y="20"/>
                </a:lnTo>
                <a:lnTo>
                  <a:pt x="26" y="24"/>
                </a:lnTo>
                <a:lnTo>
                  <a:pt x="24" y="27"/>
                </a:lnTo>
                <a:lnTo>
                  <a:pt x="21" y="30"/>
                </a:lnTo>
                <a:lnTo>
                  <a:pt x="17" y="33"/>
                </a:lnTo>
                <a:lnTo>
                  <a:pt x="14" y="37"/>
                </a:lnTo>
                <a:lnTo>
                  <a:pt x="10" y="43"/>
                </a:lnTo>
                <a:lnTo>
                  <a:pt x="7" y="49"/>
                </a:lnTo>
                <a:lnTo>
                  <a:pt x="4" y="54"/>
                </a:lnTo>
                <a:lnTo>
                  <a:pt x="3" y="58"/>
                </a:lnTo>
                <a:lnTo>
                  <a:pt x="2" y="61"/>
                </a:lnTo>
                <a:lnTo>
                  <a:pt x="1" y="64"/>
                </a:lnTo>
                <a:lnTo>
                  <a:pt x="0" y="66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1"/>
                </a:lnTo>
                <a:lnTo>
                  <a:pt x="1" y="86"/>
                </a:lnTo>
                <a:lnTo>
                  <a:pt x="3" y="91"/>
                </a:lnTo>
                <a:lnTo>
                  <a:pt x="5" y="96"/>
                </a:lnTo>
                <a:lnTo>
                  <a:pt x="8" y="100"/>
                </a:lnTo>
                <a:lnTo>
                  <a:pt x="10" y="102"/>
                </a:lnTo>
                <a:lnTo>
                  <a:pt x="15" y="106"/>
                </a:lnTo>
                <a:lnTo>
                  <a:pt x="19" y="109"/>
                </a:lnTo>
                <a:lnTo>
                  <a:pt x="24" y="112"/>
                </a:lnTo>
                <a:lnTo>
                  <a:pt x="28" y="114"/>
                </a:lnTo>
                <a:lnTo>
                  <a:pt x="32" y="117"/>
                </a:lnTo>
                <a:lnTo>
                  <a:pt x="36" y="119"/>
                </a:lnTo>
                <a:lnTo>
                  <a:pt x="44" y="122"/>
                </a:lnTo>
                <a:lnTo>
                  <a:pt x="51" y="123"/>
                </a:lnTo>
                <a:lnTo>
                  <a:pt x="56" y="123"/>
                </a:lnTo>
                <a:lnTo>
                  <a:pt x="60" y="124"/>
                </a:lnTo>
                <a:lnTo>
                  <a:pt x="66" y="125"/>
                </a:lnTo>
                <a:lnTo>
                  <a:pt x="72" y="126"/>
                </a:lnTo>
                <a:lnTo>
                  <a:pt x="85" y="130"/>
                </a:lnTo>
                <a:lnTo>
                  <a:pt x="92" y="131"/>
                </a:lnTo>
                <a:lnTo>
                  <a:pt x="97" y="133"/>
                </a:lnTo>
                <a:lnTo>
                  <a:pt x="105" y="134"/>
                </a:lnTo>
                <a:lnTo>
                  <a:pt x="112" y="134"/>
                </a:lnTo>
                <a:lnTo>
                  <a:pt x="120" y="135"/>
                </a:lnTo>
                <a:lnTo>
                  <a:pt x="127" y="135"/>
                </a:lnTo>
                <a:lnTo>
                  <a:pt x="132" y="134"/>
                </a:lnTo>
                <a:lnTo>
                  <a:pt x="138" y="133"/>
                </a:lnTo>
                <a:lnTo>
                  <a:pt x="144" y="132"/>
                </a:lnTo>
                <a:lnTo>
                  <a:pt x="150" y="131"/>
                </a:lnTo>
                <a:lnTo>
                  <a:pt x="155" y="130"/>
                </a:lnTo>
                <a:lnTo>
                  <a:pt x="159" y="130"/>
                </a:lnTo>
                <a:lnTo>
                  <a:pt x="166" y="130"/>
                </a:lnTo>
                <a:lnTo>
                  <a:pt x="173" y="129"/>
                </a:lnTo>
                <a:lnTo>
                  <a:pt x="181" y="129"/>
                </a:lnTo>
                <a:lnTo>
                  <a:pt x="184" y="129"/>
                </a:lnTo>
                <a:lnTo>
                  <a:pt x="187" y="129"/>
                </a:lnTo>
                <a:lnTo>
                  <a:pt x="194" y="125"/>
                </a:lnTo>
                <a:lnTo>
                  <a:pt x="201" y="124"/>
                </a:lnTo>
                <a:lnTo>
                  <a:pt x="205" y="122"/>
                </a:lnTo>
                <a:lnTo>
                  <a:pt x="210" y="121"/>
                </a:lnTo>
                <a:lnTo>
                  <a:pt x="214" y="119"/>
                </a:lnTo>
                <a:lnTo>
                  <a:pt x="218" y="118"/>
                </a:lnTo>
                <a:lnTo>
                  <a:pt x="225" y="115"/>
                </a:lnTo>
                <a:lnTo>
                  <a:pt x="233" y="112"/>
                </a:lnTo>
                <a:lnTo>
                  <a:pt x="237" y="110"/>
                </a:lnTo>
                <a:lnTo>
                  <a:pt x="241" y="106"/>
                </a:lnTo>
                <a:lnTo>
                  <a:pt x="243" y="105"/>
                </a:lnTo>
                <a:lnTo>
                  <a:pt x="244" y="103"/>
                </a:lnTo>
                <a:lnTo>
                  <a:pt x="246" y="99"/>
                </a:lnTo>
                <a:lnTo>
                  <a:pt x="247" y="97"/>
                </a:lnTo>
                <a:lnTo>
                  <a:pt x="248" y="94"/>
                </a:lnTo>
                <a:lnTo>
                  <a:pt x="250" y="91"/>
                </a:lnTo>
                <a:lnTo>
                  <a:pt x="251" y="88"/>
                </a:lnTo>
                <a:lnTo>
                  <a:pt x="251" y="85"/>
                </a:lnTo>
                <a:lnTo>
                  <a:pt x="252" y="83"/>
                </a:lnTo>
                <a:lnTo>
                  <a:pt x="251" y="80"/>
                </a:lnTo>
                <a:lnTo>
                  <a:pt x="250" y="77"/>
                </a:lnTo>
                <a:lnTo>
                  <a:pt x="249" y="74"/>
                </a:lnTo>
                <a:lnTo>
                  <a:pt x="248" y="71"/>
                </a:lnTo>
                <a:lnTo>
                  <a:pt x="248" y="69"/>
                </a:lnTo>
                <a:lnTo>
                  <a:pt x="248" y="66"/>
                </a:lnTo>
                <a:lnTo>
                  <a:pt x="247" y="63"/>
                </a:lnTo>
                <a:lnTo>
                  <a:pt x="246" y="59"/>
                </a:lnTo>
                <a:lnTo>
                  <a:pt x="244" y="54"/>
                </a:lnTo>
                <a:lnTo>
                  <a:pt x="243" y="50"/>
                </a:lnTo>
                <a:lnTo>
                  <a:pt x="241" y="46"/>
                </a:lnTo>
                <a:lnTo>
                  <a:pt x="239" y="42"/>
                </a:lnTo>
                <a:lnTo>
                  <a:pt x="237" y="38"/>
                </a:lnTo>
                <a:lnTo>
                  <a:pt x="236" y="36"/>
                </a:lnTo>
                <a:lnTo>
                  <a:pt x="234" y="33"/>
                </a:lnTo>
                <a:lnTo>
                  <a:pt x="232" y="31"/>
                </a:lnTo>
                <a:lnTo>
                  <a:pt x="230" y="30"/>
                </a:lnTo>
                <a:lnTo>
                  <a:pt x="228" y="29"/>
                </a:lnTo>
                <a:lnTo>
                  <a:pt x="224" y="27"/>
                </a:lnTo>
                <a:lnTo>
                  <a:pt x="222" y="25"/>
                </a:lnTo>
                <a:lnTo>
                  <a:pt x="220" y="24"/>
                </a:lnTo>
                <a:lnTo>
                  <a:pt x="217" y="24"/>
                </a:lnTo>
                <a:lnTo>
                  <a:pt x="196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MARTPenAnnotation5"/>
          <p:cNvSpPr/>
          <p:nvPr/>
        </p:nvSpPr>
        <p:spPr>
          <a:xfrm>
            <a:off x="1616040" y="4340160"/>
            <a:ext cx="1488960" cy="1366920"/>
          </a:xfrm>
          <a:custGeom>
            <a:avLst/>
            <a:gdLst>
              <a:gd name="textAreaLeft" fmla="*/ 0 w 1488960"/>
              <a:gd name="textAreaRight" fmla="*/ 1489320 w 1488960"/>
              <a:gd name="textAreaTop" fmla="*/ 0 h 1366920"/>
              <a:gd name="textAreaBottom" fmla="*/ 1366920 h 1366920"/>
            </a:gdLst>
            <a:ahLst/>
            <a:rect l="textAreaLeft" t="textAreaTop" r="textAreaRight" b="textAreaBottom"/>
            <a:pathLst>
              <a:path w="938" h="861">
                <a:moveTo>
                  <a:pt x="0" y="17"/>
                </a:moveTo>
                <a:lnTo>
                  <a:pt x="3" y="20"/>
                </a:lnTo>
                <a:lnTo>
                  <a:pt x="16" y="43"/>
                </a:lnTo>
                <a:lnTo>
                  <a:pt x="20" y="47"/>
                </a:lnTo>
                <a:lnTo>
                  <a:pt x="21" y="48"/>
                </a:lnTo>
                <a:lnTo>
                  <a:pt x="27" y="50"/>
                </a:lnTo>
                <a:lnTo>
                  <a:pt x="34" y="56"/>
                </a:lnTo>
                <a:lnTo>
                  <a:pt x="36" y="58"/>
                </a:lnTo>
                <a:lnTo>
                  <a:pt x="37" y="60"/>
                </a:lnTo>
                <a:lnTo>
                  <a:pt x="38" y="64"/>
                </a:lnTo>
                <a:lnTo>
                  <a:pt x="39" y="65"/>
                </a:lnTo>
                <a:lnTo>
                  <a:pt x="41" y="66"/>
                </a:lnTo>
                <a:lnTo>
                  <a:pt x="42" y="66"/>
                </a:lnTo>
                <a:lnTo>
                  <a:pt x="45" y="68"/>
                </a:lnTo>
                <a:lnTo>
                  <a:pt x="47" y="70"/>
                </a:lnTo>
                <a:lnTo>
                  <a:pt x="49" y="71"/>
                </a:lnTo>
                <a:lnTo>
                  <a:pt x="53" y="72"/>
                </a:lnTo>
                <a:lnTo>
                  <a:pt x="80" y="73"/>
                </a:lnTo>
                <a:lnTo>
                  <a:pt x="100" y="73"/>
                </a:lnTo>
                <a:lnTo>
                  <a:pt x="128" y="67"/>
                </a:lnTo>
                <a:lnTo>
                  <a:pt x="150" y="61"/>
                </a:lnTo>
                <a:lnTo>
                  <a:pt x="159" y="58"/>
                </a:lnTo>
                <a:lnTo>
                  <a:pt x="174" y="56"/>
                </a:lnTo>
                <a:lnTo>
                  <a:pt x="198" y="53"/>
                </a:lnTo>
                <a:lnTo>
                  <a:pt x="209" y="50"/>
                </a:lnTo>
                <a:lnTo>
                  <a:pt x="216" y="47"/>
                </a:lnTo>
                <a:lnTo>
                  <a:pt x="232" y="45"/>
                </a:lnTo>
                <a:lnTo>
                  <a:pt x="256" y="45"/>
                </a:lnTo>
                <a:lnTo>
                  <a:pt x="291" y="45"/>
                </a:lnTo>
                <a:lnTo>
                  <a:pt x="298" y="46"/>
                </a:lnTo>
                <a:lnTo>
                  <a:pt x="306" y="49"/>
                </a:lnTo>
                <a:lnTo>
                  <a:pt x="333" y="53"/>
                </a:lnTo>
                <a:lnTo>
                  <a:pt x="356" y="57"/>
                </a:lnTo>
                <a:lnTo>
                  <a:pt x="385" y="69"/>
                </a:lnTo>
                <a:lnTo>
                  <a:pt x="395" y="71"/>
                </a:lnTo>
                <a:lnTo>
                  <a:pt x="405" y="73"/>
                </a:lnTo>
                <a:lnTo>
                  <a:pt x="433" y="83"/>
                </a:lnTo>
                <a:lnTo>
                  <a:pt x="441" y="84"/>
                </a:lnTo>
                <a:lnTo>
                  <a:pt x="465" y="92"/>
                </a:lnTo>
                <a:lnTo>
                  <a:pt x="485" y="95"/>
                </a:lnTo>
                <a:lnTo>
                  <a:pt x="509" y="95"/>
                </a:lnTo>
                <a:lnTo>
                  <a:pt x="540" y="95"/>
                </a:lnTo>
                <a:lnTo>
                  <a:pt x="550" y="94"/>
                </a:lnTo>
                <a:lnTo>
                  <a:pt x="575" y="84"/>
                </a:lnTo>
                <a:lnTo>
                  <a:pt x="586" y="80"/>
                </a:lnTo>
                <a:lnTo>
                  <a:pt x="604" y="68"/>
                </a:lnTo>
                <a:lnTo>
                  <a:pt x="617" y="60"/>
                </a:lnTo>
                <a:lnTo>
                  <a:pt x="643" y="46"/>
                </a:lnTo>
                <a:lnTo>
                  <a:pt x="671" y="30"/>
                </a:lnTo>
                <a:lnTo>
                  <a:pt x="682" y="23"/>
                </a:lnTo>
                <a:lnTo>
                  <a:pt x="708" y="11"/>
                </a:lnTo>
                <a:lnTo>
                  <a:pt x="728" y="5"/>
                </a:lnTo>
                <a:lnTo>
                  <a:pt x="731" y="3"/>
                </a:lnTo>
                <a:lnTo>
                  <a:pt x="738" y="1"/>
                </a:lnTo>
                <a:lnTo>
                  <a:pt x="764" y="0"/>
                </a:lnTo>
                <a:lnTo>
                  <a:pt x="804" y="0"/>
                </a:lnTo>
                <a:lnTo>
                  <a:pt x="822" y="1"/>
                </a:lnTo>
                <a:lnTo>
                  <a:pt x="841" y="3"/>
                </a:lnTo>
                <a:lnTo>
                  <a:pt x="867" y="1"/>
                </a:lnTo>
                <a:lnTo>
                  <a:pt x="892" y="0"/>
                </a:lnTo>
                <a:lnTo>
                  <a:pt x="907" y="0"/>
                </a:lnTo>
                <a:lnTo>
                  <a:pt x="911" y="0"/>
                </a:lnTo>
                <a:lnTo>
                  <a:pt x="924" y="5"/>
                </a:lnTo>
                <a:lnTo>
                  <a:pt x="933" y="5"/>
                </a:lnTo>
                <a:lnTo>
                  <a:pt x="933" y="6"/>
                </a:lnTo>
                <a:lnTo>
                  <a:pt x="934" y="10"/>
                </a:lnTo>
                <a:lnTo>
                  <a:pt x="937" y="16"/>
                </a:lnTo>
                <a:lnTo>
                  <a:pt x="937" y="19"/>
                </a:lnTo>
                <a:lnTo>
                  <a:pt x="934" y="41"/>
                </a:lnTo>
                <a:lnTo>
                  <a:pt x="925" y="61"/>
                </a:lnTo>
                <a:lnTo>
                  <a:pt x="913" y="85"/>
                </a:lnTo>
                <a:lnTo>
                  <a:pt x="901" y="110"/>
                </a:lnTo>
                <a:lnTo>
                  <a:pt x="899" y="112"/>
                </a:lnTo>
                <a:lnTo>
                  <a:pt x="893" y="117"/>
                </a:lnTo>
                <a:lnTo>
                  <a:pt x="890" y="119"/>
                </a:lnTo>
                <a:lnTo>
                  <a:pt x="884" y="125"/>
                </a:lnTo>
                <a:lnTo>
                  <a:pt x="872" y="140"/>
                </a:lnTo>
                <a:lnTo>
                  <a:pt x="859" y="157"/>
                </a:lnTo>
                <a:lnTo>
                  <a:pt x="842" y="180"/>
                </a:lnTo>
                <a:lnTo>
                  <a:pt x="841" y="183"/>
                </a:lnTo>
                <a:lnTo>
                  <a:pt x="838" y="193"/>
                </a:lnTo>
                <a:lnTo>
                  <a:pt x="836" y="198"/>
                </a:lnTo>
                <a:lnTo>
                  <a:pt x="831" y="219"/>
                </a:lnTo>
                <a:lnTo>
                  <a:pt x="826" y="242"/>
                </a:lnTo>
                <a:lnTo>
                  <a:pt x="823" y="249"/>
                </a:lnTo>
                <a:lnTo>
                  <a:pt x="818" y="275"/>
                </a:lnTo>
                <a:lnTo>
                  <a:pt x="816" y="288"/>
                </a:lnTo>
                <a:lnTo>
                  <a:pt x="809" y="312"/>
                </a:lnTo>
                <a:lnTo>
                  <a:pt x="799" y="335"/>
                </a:lnTo>
                <a:lnTo>
                  <a:pt x="786" y="361"/>
                </a:lnTo>
                <a:lnTo>
                  <a:pt x="771" y="387"/>
                </a:lnTo>
                <a:lnTo>
                  <a:pt x="760" y="409"/>
                </a:lnTo>
                <a:lnTo>
                  <a:pt x="754" y="417"/>
                </a:lnTo>
                <a:lnTo>
                  <a:pt x="750" y="424"/>
                </a:lnTo>
                <a:lnTo>
                  <a:pt x="743" y="431"/>
                </a:lnTo>
                <a:lnTo>
                  <a:pt x="738" y="435"/>
                </a:lnTo>
                <a:lnTo>
                  <a:pt x="734" y="438"/>
                </a:lnTo>
                <a:lnTo>
                  <a:pt x="722" y="447"/>
                </a:lnTo>
                <a:lnTo>
                  <a:pt x="710" y="452"/>
                </a:lnTo>
                <a:lnTo>
                  <a:pt x="687" y="471"/>
                </a:lnTo>
                <a:lnTo>
                  <a:pt x="665" y="488"/>
                </a:lnTo>
                <a:lnTo>
                  <a:pt x="651" y="507"/>
                </a:lnTo>
                <a:lnTo>
                  <a:pt x="650" y="510"/>
                </a:lnTo>
                <a:lnTo>
                  <a:pt x="647" y="519"/>
                </a:lnTo>
                <a:lnTo>
                  <a:pt x="638" y="536"/>
                </a:lnTo>
                <a:lnTo>
                  <a:pt x="633" y="559"/>
                </a:lnTo>
                <a:lnTo>
                  <a:pt x="628" y="575"/>
                </a:lnTo>
                <a:lnTo>
                  <a:pt x="624" y="582"/>
                </a:lnTo>
                <a:lnTo>
                  <a:pt x="623" y="585"/>
                </a:lnTo>
                <a:lnTo>
                  <a:pt x="621" y="591"/>
                </a:lnTo>
                <a:lnTo>
                  <a:pt x="620" y="595"/>
                </a:lnTo>
                <a:lnTo>
                  <a:pt x="618" y="600"/>
                </a:lnTo>
                <a:lnTo>
                  <a:pt x="601" y="623"/>
                </a:lnTo>
                <a:lnTo>
                  <a:pt x="582" y="645"/>
                </a:lnTo>
                <a:lnTo>
                  <a:pt x="576" y="654"/>
                </a:lnTo>
                <a:lnTo>
                  <a:pt x="574" y="655"/>
                </a:lnTo>
                <a:lnTo>
                  <a:pt x="572" y="656"/>
                </a:lnTo>
                <a:lnTo>
                  <a:pt x="570" y="658"/>
                </a:lnTo>
                <a:lnTo>
                  <a:pt x="565" y="669"/>
                </a:lnTo>
                <a:lnTo>
                  <a:pt x="563" y="671"/>
                </a:lnTo>
                <a:lnTo>
                  <a:pt x="561" y="672"/>
                </a:lnTo>
                <a:lnTo>
                  <a:pt x="557" y="677"/>
                </a:lnTo>
                <a:lnTo>
                  <a:pt x="552" y="684"/>
                </a:lnTo>
                <a:lnTo>
                  <a:pt x="541" y="697"/>
                </a:lnTo>
                <a:lnTo>
                  <a:pt x="532" y="709"/>
                </a:lnTo>
                <a:lnTo>
                  <a:pt x="527" y="715"/>
                </a:lnTo>
                <a:lnTo>
                  <a:pt x="522" y="718"/>
                </a:lnTo>
                <a:lnTo>
                  <a:pt x="516" y="724"/>
                </a:lnTo>
                <a:lnTo>
                  <a:pt x="503" y="741"/>
                </a:lnTo>
                <a:lnTo>
                  <a:pt x="498" y="753"/>
                </a:lnTo>
                <a:lnTo>
                  <a:pt x="498" y="756"/>
                </a:lnTo>
                <a:lnTo>
                  <a:pt x="498" y="758"/>
                </a:lnTo>
                <a:lnTo>
                  <a:pt x="499" y="760"/>
                </a:lnTo>
                <a:lnTo>
                  <a:pt x="499" y="762"/>
                </a:lnTo>
                <a:lnTo>
                  <a:pt x="498" y="764"/>
                </a:lnTo>
                <a:lnTo>
                  <a:pt x="487" y="787"/>
                </a:lnTo>
                <a:lnTo>
                  <a:pt x="485" y="789"/>
                </a:lnTo>
                <a:lnTo>
                  <a:pt x="484" y="790"/>
                </a:lnTo>
                <a:lnTo>
                  <a:pt x="482" y="791"/>
                </a:lnTo>
                <a:lnTo>
                  <a:pt x="481" y="793"/>
                </a:lnTo>
                <a:lnTo>
                  <a:pt x="478" y="801"/>
                </a:lnTo>
                <a:lnTo>
                  <a:pt x="473" y="808"/>
                </a:lnTo>
                <a:lnTo>
                  <a:pt x="473" y="821"/>
                </a:lnTo>
                <a:lnTo>
                  <a:pt x="474" y="836"/>
                </a:lnTo>
                <a:lnTo>
                  <a:pt x="478" y="8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PTOS BÁSIC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Declaración anticipada de lo que se piensa ha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emporal, espacial, de recursos y cos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ctivida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mponente de más bajo nivel en un W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tilizan recursos determin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i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vento que ocurre en un determinado mom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4762800" cy="65055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3"/>
          <p:cNvSpPr/>
          <p:nvPr/>
        </p:nvSpPr>
        <p:spPr>
          <a:xfrm>
            <a:off x="6443640" y="333360"/>
            <a:ext cx="2519280" cy="863640"/>
          </a:xfrm>
          <a:prstGeom prst="wedgeRoundRectCallout">
            <a:avLst>
              <a:gd name="adj1" fmla="val -107592"/>
              <a:gd name="adj2" fmla="val 8400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OGRAMA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6659640" y="2492280"/>
            <a:ext cx="1871640" cy="647640"/>
          </a:xfrm>
          <a:prstGeom prst="wedgeRoundRectCallout">
            <a:avLst>
              <a:gd name="adj1" fmla="val -121245"/>
              <a:gd name="adj2" fmla="val 44361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TERI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50920" y="4437000"/>
            <a:ext cx="1871640" cy="647640"/>
          </a:xfrm>
          <a:prstGeom prst="wedgeRoundRectCallout">
            <a:avLst>
              <a:gd name="adj1" fmla="val 111490"/>
              <a:gd name="adj2" fmla="val -22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ANO DE OB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767640" y="3357720"/>
            <a:ext cx="2376360" cy="647640"/>
          </a:xfrm>
          <a:prstGeom prst="wedgeRoundRectCallout">
            <a:avLst>
              <a:gd name="adj1" fmla="val -128824"/>
              <a:gd name="adj2" fmla="val 14166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UBCONTRA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7"/>
          <p:cNvSpPr/>
          <p:nvPr/>
        </p:nvSpPr>
        <p:spPr>
          <a:xfrm>
            <a:off x="6588000" y="4869000"/>
            <a:ext cx="2087640" cy="647640"/>
          </a:xfrm>
          <a:prstGeom prst="wedgeRoundRectCallout">
            <a:avLst>
              <a:gd name="adj1" fmla="val -127643"/>
              <a:gd name="adj2" fmla="val -3382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324000" y="5877000"/>
            <a:ext cx="1800000" cy="576360"/>
          </a:xfrm>
          <a:prstGeom prst="wedgeRoundRectCallout">
            <a:avLst>
              <a:gd name="adj1" fmla="val 185712"/>
              <a:gd name="adj2" fmla="val -40634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ESPA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1258920" y="5300640"/>
            <a:ext cx="2376360" cy="432000"/>
          </a:xfrm>
          <a:prstGeom prst="wedgeRoundRectCallout">
            <a:avLst>
              <a:gd name="adj1" fmla="val 60819"/>
              <a:gd name="adj2" fmla="val -311763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FINANCIA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0" y="2205000"/>
            <a:ext cx="91440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11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102040" cy="1407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33" name="AutoShape 12"/>
          <p:cNvSpPr/>
          <p:nvPr/>
        </p:nvSpPr>
        <p:spPr>
          <a:xfrm>
            <a:off x="6659640" y="1413000"/>
            <a:ext cx="2233440" cy="647640"/>
          </a:xfrm>
          <a:prstGeom prst="wedgeRoundRectCallout">
            <a:avLst>
              <a:gd name="adj1" fmla="val -143958"/>
              <a:gd name="adj2" fmla="val 26962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TIVIDADES</a:t>
            </a:r>
            <a:br>
              <a:rPr sz="1800"/>
            </a:b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REV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6516720" y="5805360"/>
            <a:ext cx="2087640" cy="648000"/>
          </a:xfrm>
          <a:prstGeom prst="wedgeRoundRectCallout">
            <a:avLst>
              <a:gd name="adj1" fmla="val -115245"/>
              <a:gd name="adj2" fmla="val -88726"/>
              <a:gd name="adj3" fmla="val 16667"/>
            </a:avLst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OTROS</a:t>
            </a:r>
            <a:br>
              <a:rPr sz="1800"/>
            </a:b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QUISITOS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324000" y="2349360"/>
            <a:ext cx="1871640" cy="648000"/>
          </a:xfrm>
          <a:prstGeom prst="wedgeRoundRectCallout">
            <a:avLst>
              <a:gd name="adj1" fmla="val 120824"/>
              <a:gd name="adj2" fmla="val 11518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250920" y="3213000"/>
            <a:ext cx="1871640" cy="647640"/>
          </a:xfrm>
          <a:prstGeom prst="wedgeRoundRectCallout">
            <a:avLst>
              <a:gd name="adj1" fmla="val 121333"/>
              <a:gd name="adj2" fmla="val -79902"/>
              <a:gd name="adj3" fmla="val 16667"/>
            </a:avLst>
          </a:prstGeom>
          <a:solidFill>
            <a:srgbClr val="ffffff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SEGUR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7" name="Rectangle 16"/>
          <p:cNvGrpSpPr/>
          <p:nvPr/>
        </p:nvGrpSpPr>
        <p:grpSpPr>
          <a:xfrm>
            <a:off x="2498760" y="2822400"/>
            <a:ext cx="4432320" cy="2340000"/>
            <a:chOff x="2498760" y="2822400"/>
            <a:chExt cx="4432320" cy="2340000"/>
          </a:xfrm>
        </p:grpSpPr>
        <p:pic>
          <p:nvPicPr>
            <p:cNvPr id="238" name="Rectangle 16" descr=""/>
            <p:cNvPicPr/>
            <p:nvPr/>
          </p:nvPicPr>
          <p:blipFill>
            <a:blip r:embed="rId3"/>
            <a:stretch/>
          </p:blipFill>
          <p:spPr>
            <a:xfrm>
              <a:off x="2498760" y="2822400"/>
              <a:ext cx="44323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665440" y="2962440"/>
              <a:ext cx="410040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800" spc="-1" strike="noStrike">
                  <a:solidFill>
                    <a:srgbClr val="ffffff"/>
                  </a:solidFill>
                  <a:latin typeface="Arial"/>
                </a:rPr>
                <a:t>RESTRICCIONES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Planificación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LAST PLANN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17847" t="9242" r="10752" b="8658"/>
          <a:stretch/>
        </p:blipFill>
        <p:spPr>
          <a:xfrm>
            <a:off x="1114560" y="1773360"/>
            <a:ext cx="691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Niveles de Program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5267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iveles de Planific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Maestr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rograma de Fa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Intermedia de 3 a 6 sema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ificación Sema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5651640" y="2708280"/>
            <a:ext cx="288720" cy="865080"/>
          </a:xfrm>
          <a:custGeom>
            <a:avLst/>
            <a:gdLst>
              <a:gd name="textAreaLeft" fmla="*/ 0 w 288720"/>
              <a:gd name="textAreaRight" fmla="*/ 104040 w 28872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5651640" y="3716280"/>
            <a:ext cx="288720" cy="720720"/>
          </a:xfrm>
          <a:custGeom>
            <a:avLst/>
            <a:gdLst>
              <a:gd name="textAreaLeft" fmla="*/ 0 w 288720"/>
              <a:gd name="textAreaRight" fmla="*/ 104040 w 288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5651640" y="4653000"/>
            <a:ext cx="288720" cy="360360"/>
          </a:xfrm>
          <a:custGeom>
            <a:avLst/>
            <a:gdLst>
              <a:gd name="textAreaLeft" fmla="*/ 0 w 288720"/>
              <a:gd name="textAreaRight" fmla="*/ 104040 w 288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227640" y="29242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156360" y="371628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IRVE PARA DETERMINAR LO QUE PUEDE HACER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227640" y="465300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E HAR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Maestr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mostrar la factibilidad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arrollar estrategias para la ejecu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terminar cuándo se necesitan los ítems más demorosos </a:t>
            </a:r>
            <a:r>
              <a:rPr b="0" lang="es-CL" sz="3200" spc="-1" strike="noStrike">
                <a:solidFill>
                  <a:srgbClr val="ffcc00"/>
                </a:solidFill>
                <a:latin typeface="Tahoma"/>
              </a:rPr>
              <a:t>(Recursos Clase 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dentificar los hi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rograma de Fa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77852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sarrollar el programa de fase para las etapas mayores 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(Movimiento de Tierra, Obra Gruesa, Terminacion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efinir duraciones y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s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visar las actividades para determinar la incertidumb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 se dispone de plazo, consider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tiempo para contingencia en la duración de las activ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corporar “Buffer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erminar antes del plaz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f.:  Phase Scheduling, LCI White Paper 7, April 27, 2000  (In White Paper Section on LCI Webs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Planificación Intermed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grama de 3 a 6 semanas hacia adelante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típicamente 4 seman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talla el programa de fase en conjuntos de trabajos manej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a forma a la secuenci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ite visualizar las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restricciones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que impiden que una tarea se pueda ejecutar inmediatamente. </a:t>
            </a:r>
            <a:r>
              <a:rPr b="0" lang="es-CL" sz="2400" spc="-1" strike="noStrike">
                <a:solidFill>
                  <a:srgbClr val="ffcc00"/>
                </a:solidFill>
                <a:latin typeface="Tahoma"/>
              </a:rPr>
              <a:t>(Entre las restricciones están las compras de materiales Clase 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patibiliza los flujos con las capac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esarrolla métodos detallados para la ejec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ner un “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Inventario de Trabajo Ejecutable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” (I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4 Criterios para Planific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finició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suficientemente específic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cuencia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el orden correct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maño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tá de acuerdo con la capacidad de la cuadril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ntido común – </a:t>
            </a:r>
            <a:r>
              <a:rPr b="1" lang="es-CL" sz="3200" spc="-1" strike="noStrike">
                <a:solidFill>
                  <a:srgbClr val="ffffff"/>
                </a:solidFill>
                <a:latin typeface="Tahoma"/>
              </a:rPr>
              <a:t>es factibl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684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DEB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700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PUED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CER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(IT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471636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AR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6732720" y="2781360"/>
            <a:ext cx="1728720" cy="79200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SE</a:t>
            </a:r>
            <a:br>
              <a:rPr sz="1400"/>
            </a:br>
            <a:r>
              <a:rPr b="1" lang="es-ES_tradnl" sz="1400" spc="-1" strike="noStrike">
                <a:solidFill>
                  <a:srgbClr val="0000ff"/>
                </a:solidFill>
                <a:latin typeface="Times New Roman"/>
              </a:rPr>
              <a:t>HIZ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75564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MAESTR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771640" y="4724280"/>
            <a:ext cx="172908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EDI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8"/>
          <p:cNvSpPr/>
          <p:nvPr/>
        </p:nvSpPr>
        <p:spPr>
          <a:xfrm>
            <a:off x="4788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SEMANA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6804000" y="4724280"/>
            <a:ext cx="1728720" cy="935280"/>
          </a:xfrm>
          <a:prstGeom prst="flowChartAlternateProcess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AC</a:t>
            </a:r>
            <a:br>
              <a:rPr sz="1400"/>
            </a:b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CN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0"/>
          <p:cNvSpPr/>
          <p:nvPr/>
        </p:nvSpPr>
        <p:spPr>
          <a:xfrm rot="5400000">
            <a:off x="1039320" y="4009680"/>
            <a:ext cx="1224000" cy="351000"/>
          </a:xfrm>
          <a:prstGeom prst="rightArrow">
            <a:avLst>
              <a:gd name="adj1" fmla="val 50231"/>
              <a:gd name="adj2" fmla="val 5020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11"/>
          <p:cNvSpPr/>
          <p:nvPr/>
        </p:nvSpPr>
        <p:spPr>
          <a:xfrm>
            <a:off x="4429080" y="2997360"/>
            <a:ext cx="433440" cy="350640"/>
          </a:xfrm>
          <a:prstGeom prst="rightArrow">
            <a:avLst>
              <a:gd name="adj1" fmla="val 50000"/>
              <a:gd name="adj2" fmla="val 30903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12"/>
          <p:cNvSpPr/>
          <p:nvPr/>
        </p:nvSpPr>
        <p:spPr>
          <a:xfrm rot="5400000">
            <a:off x="5072040" y="4010040"/>
            <a:ext cx="1224000" cy="350640"/>
          </a:xfrm>
          <a:prstGeom prst="rightArrow">
            <a:avLst>
              <a:gd name="adj1" fmla="val 55657"/>
              <a:gd name="adj2" fmla="val 4392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2484360" y="5011560"/>
            <a:ext cx="433440" cy="360720"/>
          </a:xfrm>
          <a:prstGeom prst="rightArrow">
            <a:avLst>
              <a:gd name="adj1" fmla="val 50000"/>
              <a:gd name="adj2" fmla="val 3004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14"/>
          <p:cNvSpPr/>
          <p:nvPr/>
        </p:nvSpPr>
        <p:spPr>
          <a:xfrm rot="16200000">
            <a:off x="2987640" y="3931920"/>
            <a:ext cx="1224000" cy="360360"/>
          </a:xfrm>
          <a:prstGeom prst="rightArrow">
            <a:avLst>
              <a:gd name="adj1" fmla="val 48907"/>
              <a:gd name="adj2" fmla="val 502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15"/>
          <p:cNvSpPr/>
          <p:nvPr/>
        </p:nvSpPr>
        <p:spPr>
          <a:xfrm rot="5400000">
            <a:off x="7087680" y="4009680"/>
            <a:ext cx="1224000" cy="351000"/>
          </a:xfrm>
          <a:prstGeom prst="rightArrow">
            <a:avLst>
              <a:gd name="adj1" fmla="val 53852"/>
              <a:gd name="adj2" fmla="val 4388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2" name="Group 16"/>
          <p:cNvGrpSpPr/>
          <p:nvPr/>
        </p:nvGrpSpPr>
        <p:grpSpPr>
          <a:xfrm>
            <a:off x="6031080" y="3089520"/>
            <a:ext cx="1188720" cy="2202840"/>
            <a:chOff x="6031080" y="3089520"/>
            <a:chExt cx="1188720" cy="2202840"/>
          </a:xfrm>
        </p:grpSpPr>
        <p:sp>
          <p:nvSpPr>
            <p:cNvPr id="273" name="AutoShape 17"/>
            <p:cNvSpPr/>
            <p:nvPr/>
          </p:nvSpPr>
          <p:spPr>
            <a:xfrm rot="17431800">
              <a:off x="5797440" y="3860280"/>
              <a:ext cx="1655640" cy="649440"/>
            </a:xfrm>
            <a:custGeom>
              <a:avLst/>
              <a:gdLst>
                <a:gd name="textAreaLeft" fmla="*/ 226800 w 1655640"/>
                <a:gd name="textAreaRight" fmla="*/ 1428840 w 1655640"/>
                <a:gd name="textAreaTop" fmla="*/ 126000 h 649440"/>
                <a:gd name="textAreaBottom" fmla="*/ 52344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195"/>
                  </a:moveTo>
                  <a:lnTo>
                    <a:pt x="16762" y="4195"/>
                  </a:lnTo>
                  <a:lnTo>
                    <a:pt x="16762" y="0"/>
                  </a:lnTo>
                  <a:lnTo>
                    <a:pt x="21600" y="10800"/>
                  </a:lnTo>
                  <a:lnTo>
                    <a:pt x="16762" y="21600"/>
                  </a:lnTo>
                  <a:lnTo>
                    <a:pt x="16762" y="17405"/>
                  </a:lnTo>
                  <a:lnTo>
                    <a:pt x="0" y="17405"/>
                  </a:lnTo>
                  <a:lnTo>
                    <a:pt x="2959" y="10800"/>
                  </a:lnTo>
                  <a:lnTo>
                    <a:pt x="0" y="4195"/>
                  </a:lnTo>
                  <a:close/>
                </a:path>
              </a:pathLst>
            </a:custGeom>
            <a:solidFill>
              <a:srgbClr val="33996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Text Box 18"/>
            <p:cNvSpPr/>
            <p:nvPr/>
          </p:nvSpPr>
          <p:spPr>
            <a:xfrm rot="17460000">
              <a:off x="5492160" y="4024440"/>
              <a:ext cx="2232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PRODUCCIÓN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Proceso de Planificación</a:t>
            </a:r>
            <a:br>
              <a:rPr sz="4000"/>
            </a:br>
            <a:r>
              <a:rPr b="0" lang="es-ES" sz="4000" spc="-1" strike="noStrike">
                <a:solidFill>
                  <a:srgbClr val="e5ffff"/>
                </a:solidFill>
                <a:latin typeface="Tahoma"/>
              </a:rPr>
              <a:t>(Simplificado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lación entre activi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684360" y="2707920"/>
            <a:ext cx="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84360" y="5516640"/>
            <a:ext cx="806436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684360" y="2997360"/>
            <a:ext cx="3024000" cy="2520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2400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8317080" y="558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2340000" y="2923920"/>
            <a:ext cx="3311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Line 10"/>
          <p:cNvSpPr/>
          <p:nvPr/>
        </p:nvSpPr>
        <p:spPr>
          <a:xfrm flipV="1">
            <a:off x="684360" y="2924280"/>
            <a:ext cx="7848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Line 11"/>
          <p:cNvSpPr/>
          <p:nvPr/>
        </p:nvSpPr>
        <p:spPr>
          <a:xfrm flipV="1">
            <a:off x="755640" y="2923920"/>
            <a:ext cx="4032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Line 12"/>
          <p:cNvSpPr/>
          <p:nvPr/>
        </p:nvSpPr>
        <p:spPr>
          <a:xfrm flipV="1">
            <a:off x="1979640" y="2923920"/>
            <a:ext cx="280836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13"/>
          <p:cNvSpPr/>
          <p:nvPr/>
        </p:nvSpPr>
        <p:spPr>
          <a:xfrm rot="16200000">
            <a:off x="2050920" y="5446440"/>
            <a:ext cx="180720" cy="466920"/>
          </a:xfrm>
          <a:custGeom>
            <a:avLst/>
            <a:gdLst>
              <a:gd name="textAreaLeft" fmla="*/ 115560 w 180720"/>
              <a:gd name="textAreaRight" fmla="*/ 181080 w 180720"/>
              <a:gd name="textAreaTop" fmla="*/ 11880 h 466920"/>
              <a:gd name="textAreaBottom" fmla="*/ 455040 h 4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298764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ini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15"/>
          <p:cNvSpPr/>
          <p:nvPr/>
        </p:nvSpPr>
        <p:spPr>
          <a:xfrm flipV="1">
            <a:off x="3708360" y="2923920"/>
            <a:ext cx="2303640" cy="2592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16"/>
          <p:cNvSpPr/>
          <p:nvPr/>
        </p:nvSpPr>
        <p:spPr>
          <a:xfrm rot="5400000">
            <a:off x="5723640" y="2564640"/>
            <a:ext cx="215640" cy="3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6443640" y="3141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olgura de térm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1" name="AutoShape 18"/>
          <p:cNvCxnSpPr>
            <a:stCxn id="289" idx="1"/>
            <a:endCxn id="290" idx="1"/>
          </p:cNvCxnSpPr>
          <p:nvPr/>
        </p:nvCxnSpPr>
        <p:spPr>
          <a:xfrm flipH="1" rot="16200000">
            <a:off x="5794200" y="2675160"/>
            <a:ext cx="687960" cy="612000"/>
          </a:xfrm>
          <a:prstGeom prst="curvedConnector5">
            <a:avLst>
              <a:gd name="adj1" fmla="val -33455"/>
              <a:gd name="adj2" fmla="val 32313"/>
              <a:gd name="adj3" fmla="val -33455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92" name="AutoShape 19"/>
          <p:cNvCxnSpPr>
            <a:stCxn id="286" idx="1"/>
            <a:endCxn id="287" idx="1"/>
          </p:cNvCxnSpPr>
          <p:nvPr/>
        </p:nvCxnSpPr>
        <p:spPr>
          <a:xfrm flipH="1" rot="16200000">
            <a:off x="2239200" y="5672520"/>
            <a:ext cx="651600" cy="8467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3" name="Line 20"/>
          <p:cNvSpPr/>
          <p:nvPr/>
        </p:nvSpPr>
        <p:spPr>
          <a:xfrm flipV="1">
            <a:off x="4067280" y="2923920"/>
            <a:ext cx="0" cy="259236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AutoShape 21"/>
          <p:cNvSpPr/>
          <p:nvPr/>
        </p:nvSpPr>
        <p:spPr>
          <a:xfrm>
            <a:off x="4643280" y="386064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Text Box 22"/>
          <p:cNvSpPr/>
          <p:nvPr/>
        </p:nvSpPr>
        <p:spPr>
          <a:xfrm>
            <a:off x="5651640" y="4221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Hi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6" name="AutoShape 23"/>
          <p:cNvCxnSpPr>
            <a:stCxn id="294" idx="3"/>
            <a:endCxn id="295" idx="1"/>
          </p:cNvCxnSpPr>
          <p:nvPr/>
        </p:nvCxnSpPr>
        <p:spPr>
          <a:xfrm flipH="1" rot="16200000">
            <a:off x="5069880" y="3823560"/>
            <a:ext cx="329040" cy="83412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7" name="Text Box 24"/>
          <p:cNvSpPr/>
          <p:nvPr/>
        </p:nvSpPr>
        <p:spPr>
          <a:xfrm>
            <a:off x="5651640" y="5734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Fecha d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98" name="AutoShape 25"/>
          <p:cNvCxnSpPr>
            <a:stCxn id="293" idx="0"/>
            <a:endCxn id="297" idx="1"/>
          </p:cNvCxnSpPr>
          <p:nvPr/>
        </p:nvCxnSpPr>
        <p:spPr>
          <a:xfrm flipH="1" rot="16200000">
            <a:off x="4668120" y="4935240"/>
            <a:ext cx="381600" cy="1585080"/>
          </a:xfrm>
          <a:prstGeom prst="curved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Gráficos Tiempo-Dist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3924360" y="3933720"/>
            <a:ext cx="1152360" cy="50328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536400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3924360" y="5950080"/>
            <a:ext cx="115236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CHEC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2268360" y="5013360"/>
            <a:ext cx="1152720" cy="431640"/>
          </a:xfrm>
          <a:prstGeom prst="flowChartAlternateProcess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AutoShape 7"/>
          <p:cNvSpPr/>
          <p:nvPr/>
        </p:nvSpPr>
        <p:spPr>
          <a:xfrm flipH="1">
            <a:off x="2627280" y="566100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AutoShape 8"/>
          <p:cNvSpPr/>
          <p:nvPr/>
        </p:nvSpPr>
        <p:spPr>
          <a:xfrm flipH="1" rot="5400000">
            <a:off x="2842200" y="3968640"/>
            <a:ext cx="828720" cy="901800"/>
          </a:xfrm>
          <a:custGeom>
            <a:avLst/>
            <a:gdLst>
              <a:gd name="textAreaLeft" fmla="*/ 360 w 828720"/>
              <a:gd name="textAreaRight" fmla="*/ 710640 w 828720"/>
              <a:gd name="textAreaTop" fmla="*/ 601200 h 901800"/>
              <a:gd name="textAreaBottom" fmla="*/ 902160 h 901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AutoShape 9"/>
          <p:cNvSpPr/>
          <p:nvPr/>
        </p:nvSpPr>
        <p:spPr>
          <a:xfrm flipH="1" rot="10800000">
            <a:off x="5219640" y="4149360"/>
            <a:ext cx="1008000" cy="647640"/>
          </a:xfrm>
          <a:custGeom>
            <a:avLst/>
            <a:gdLst>
              <a:gd name="textAreaLeft" fmla="*/ 0 w 1008000"/>
              <a:gd name="textAreaRight" fmla="*/ 864000 w 1008000"/>
              <a:gd name="textAreaTop" fmla="*/ 43200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AutoShape 10"/>
          <p:cNvSpPr/>
          <p:nvPr/>
        </p:nvSpPr>
        <p:spPr>
          <a:xfrm flipH="1" rot="16200000">
            <a:off x="5327280" y="5625360"/>
            <a:ext cx="863640" cy="792360"/>
          </a:xfrm>
          <a:custGeom>
            <a:avLst/>
            <a:gdLst>
              <a:gd name="textAreaLeft" fmla="*/ 0 w 863640"/>
              <a:gd name="textAreaRight" fmla="*/ 740520 w 863640"/>
              <a:gd name="textAreaTop" fmla="*/ 52848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iclo de Demming (presente en todos los sistemas de gestió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es un proceso que comienza antes de la ejecución y se desarrolla continuamente durante és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planificación se debe comunicar adecuadamente a todos los involucr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buena planificación está basada en compromisos confi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ben tomarse precauciones para manejar la </a:t>
            </a:r>
            <a:r>
              <a:rPr b="1" lang="es-ES_tradnl" sz="3200" spc="-1" strike="noStrike">
                <a:solidFill>
                  <a:srgbClr val="ffcc00"/>
                </a:solidFill>
                <a:latin typeface="Tahoma"/>
              </a:rPr>
              <a:t>vari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5" name="Group 18"/>
          <p:cNvGrpSpPr/>
          <p:nvPr/>
        </p:nvGrpSpPr>
        <p:grpSpPr>
          <a:xfrm>
            <a:off x="4594320" y="2658600"/>
            <a:ext cx="2960640" cy="3279960"/>
            <a:chOff x="4594320" y="2658600"/>
            <a:chExt cx="2960640" cy="3279960"/>
          </a:xfrm>
        </p:grpSpPr>
        <p:sp>
          <p:nvSpPr>
            <p:cNvPr id="66" name="Line 19"/>
            <p:cNvSpPr/>
            <p:nvPr/>
          </p:nvSpPr>
          <p:spPr>
            <a:xfrm flipV="1">
              <a:off x="4594320" y="5554440"/>
              <a:ext cx="438120" cy="38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 flipV="1">
              <a:off x="5032440" y="5141520"/>
              <a:ext cx="338040" cy="42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 flipV="1">
              <a:off x="5359320" y="4316400"/>
              <a:ext cx="393840" cy="83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5753160" y="4338720"/>
              <a:ext cx="34272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V="1">
              <a:off x="6084720" y="4216320"/>
              <a:ext cx="48600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 flipV="1">
              <a:off x="6581880" y="2658600"/>
              <a:ext cx="973080" cy="1559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2" name="Line 25"/>
          <p:cNvSpPr/>
          <p:nvPr/>
        </p:nvSpPr>
        <p:spPr>
          <a:xfrm>
            <a:off x="4572000" y="2133720"/>
            <a:ext cx="0" cy="381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4572000" y="5950080"/>
            <a:ext cx="388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643280" y="206064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6804000" y="609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Line 29"/>
          <p:cNvSpPr/>
          <p:nvPr/>
        </p:nvSpPr>
        <p:spPr>
          <a:xfrm flipV="1">
            <a:off x="4572000" y="2506320"/>
            <a:ext cx="2092320" cy="3443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585720" y="2054160"/>
            <a:ext cx="3041640" cy="4108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Variabilid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9956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EJEMPLO DE LAS LOCOMOTO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de recuper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uf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650880" y="4125960"/>
            <a:ext cx="7920000" cy="1330200"/>
            <a:chOff x="650880" y="4125960"/>
            <a:chExt cx="7920000" cy="1330200"/>
          </a:xfrm>
        </p:grpSpPr>
        <p:pic>
          <p:nvPicPr>
            <p:cNvPr id="81" name="Picture 5" descr="BD06288_"/>
            <p:cNvPicPr/>
            <p:nvPr/>
          </p:nvPicPr>
          <p:blipFill>
            <a:blip r:embed="rId1"/>
            <a:stretch/>
          </p:blipFill>
          <p:spPr>
            <a:xfrm>
              <a:off x="5833800" y="4341600"/>
              <a:ext cx="223380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6" descr="BD06288_"/>
            <p:cNvPicPr/>
            <p:nvPr/>
          </p:nvPicPr>
          <p:blipFill>
            <a:blip r:embed="rId2"/>
            <a:stretch/>
          </p:blipFill>
          <p:spPr>
            <a:xfrm>
              <a:off x="3962160" y="4628880"/>
              <a:ext cx="1586160" cy="7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BD06288_"/>
            <p:cNvPicPr/>
            <p:nvPr/>
          </p:nvPicPr>
          <p:blipFill>
            <a:blip r:embed="rId3"/>
            <a:stretch/>
          </p:blipFill>
          <p:spPr>
            <a:xfrm>
              <a:off x="1009440" y="4125960"/>
              <a:ext cx="2737080" cy="13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Line 8"/>
            <p:cNvSpPr/>
            <p:nvPr/>
          </p:nvSpPr>
          <p:spPr>
            <a:xfrm>
              <a:off x="650880" y="5421240"/>
              <a:ext cx="792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5" name="Group 9"/>
          <p:cNvGrpSpPr/>
          <p:nvPr/>
        </p:nvGrpSpPr>
        <p:grpSpPr>
          <a:xfrm>
            <a:off x="3170160" y="4557600"/>
            <a:ext cx="2303280" cy="1800360"/>
            <a:chOff x="3170160" y="4557600"/>
            <a:chExt cx="2303280" cy="1800360"/>
          </a:xfrm>
        </p:grpSpPr>
        <p:sp>
          <p:nvSpPr>
            <p:cNvPr id="86" name="Line 10"/>
            <p:cNvSpPr/>
            <p:nvPr/>
          </p:nvSpPr>
          <p:spPr>
            <a:xfrm>
              <a:off x="367488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>
              <a:off x="3962160" y="4557600"/>
              <a:ext cx="0" cy="180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 flipH="1">
              <a:off x="3962160" y="6141960"/>
              <a:ext cx="1511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 flipH="1">
              <a:off x="3170160" y="6141960"/>
              <a:ext cx="50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Text Box 14"/>
            <p:cNvSpPr/>
            <p:nvPr/>
          </p:nvSpPr>
          <p:spPr>
            <a:xfrm>
              <a:off x="4251240" y="57816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UFFER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DE PLANIF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ta Gant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llas o re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mino crítico, CP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RT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gram, evaluate and review technique)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utiliza probabi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presentación mixta, tipo MS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íneas de balance (obras line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ción rítmica (obras repetitiva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RTA GANT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reada por Gantt y Taylor para planificación de la producción indust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barras representan las activ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ienzo, Duración y F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4" descr="Gantt"/>
          <p:cNvPicPr/>
          <p:nvPr/>
        </p:nvPicPr>
        <p:blipFill>
          <a:blip r:embed="rId1"/>
          <a:stretch/>
        </p:blipFill>
        <p:spPr>
          <a:xfrm>
            <a:off x="250920" y="4221000"/>
            <a:ext cx="889308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4735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¿Qué es PLANIFICAR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1:54:40Z</dcterms:created>
  <dc:creator>William Wragg L.</dc:creator>
  <dc:description/>
  <dc:language>en-US</dc:language>
  <cp:lastModifiedBy>William</cp:lastModifiedBy>
  <dcterms:modified xsi:type="dcterms:W3CDTF">2011-06-16T02:13:14Z</dcterms:modified>
  <cp:revision>26</cp:revision>
  <dc:subject/>
  <dc:title>CI 52A Métodos Constructivos</dc:title>
</cp:coreProperties>
</file>